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explode.wav" ContentType="audio/x-wav"/>
  <Override PartName="/ppt/media/image21.wmf" ContentType="image/x-wmf"/>
  <Override PartName="/ppt/media/image19.wmf" ContentType="image/x-wmf"/>
  <Override PartName="/ppt/media/carbrake.wav" ContentType="audio/x-wav"/>
  <Override PartName="/ppt/media/driveby.wav" ContentType="audio/x-wav"/>
  <Override PartName="/ppt/media/image15.wmf" ContentType="image/x-wmf"/>
  <Override PartName="/ppt/media/enginestart2.wav" ContentType="audio/x-wav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23.wmf" ContentType="image/x-wmf"/>
  <Override PartName="/ppt/media/beep.wav" ContentType="audio/x-wav"/>
  <Override PartName="/ppt/media/image14.png" ContentType="image/png"/>
  <Override PartName="/ppt/media/image24.wmf" ContentType="image/x-wmf"/>
  <Override PartName="/ppt/media/image26.wmf" ContentType="image/x-wmf"/>
  <Override PartName="/ppt/media/image28.wmf" ContentType="image/x-wmf"/>
  <Override PartName="/ppt/media/image29.wmf" ContentType="image/x-wmf"/>
  <Override PartName="/ppt/media/image11.png" ContentType="image/png"/>
  <Override PartName="/ppt/media/image1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25.wmf" ContentType="image/x-wmf"/>
  <Override PartName="/ppt/media/image37.wmf" ContentType="image/x-wmf"/>
  <Override PartName="/ppt/media/image27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image7.png" ContentType="image/png"/>
  <Override PartName="/ppt/media/image30.wmf" ContentType="image/x-wmf"/>
  <Override PartName="/ppt/media/image4.gif" ContentType="image/gif"/>
  <Override PartName="/ppt/media/image10.wmf" ContentType="image/x-wmf"/>
  <Override PartName="/ppt/media/image2.png" ContentType="image/png"/>
  <Override PartName="/ppt/media/image6.png" ContentType="image/png"/>
  <Override PartName="/ppt/media/applause.wav" ContentType="audio/x-wav"/>
  <Override PartName="/ppt/media/image5.png" ContentType="image/png"/>
  <Override PartName="/ppt/media/image40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91B1-D6E6-409F-BCA7-F50F3DF5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8767-B76B-4B42-A92C-D10BC3CE46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621-2EF8-479D-84FF-63EC1B40B0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705F-7D54-4081-AD39-50B4FE3053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D5AB-3DF4-4C39-9541-87FF8FABAF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456840" y="6476760"/>
            <a:ext cx="8610840" cy="319320"/>
            <a:chOff x="456840" y="6476760"/>
            <a:chExt cx="8610840" cy="319320"/>
          </a:xfrm>
        </p:grpSpPr>
        <p:sp>
          <p:nvSpPr>
            <p:cNvPr id="1" name="Line 13"/>
            <p:cNvSpPr/>
            <p:nvPr/>
          </p:nvSpPr>
          <p:spPr>
            <a:xfrm flipV="1">
              <a:off x="457200" y="64767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12"/>
            <p:cNvSpPr/>
            <p:nvPr/>
          </p:nvSpPr>
          <p:spPr>
            <a:xfrm flipH="1">
              <a:off x="456840" y="6705720"/>
              <a:ext cx="480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Text Box 10"/>
            <p:cNvSpPr/>
            <p:nvPr/>
          </p:nvSpPr>
          <p:spPr>
            <a:xfrm>
              <a:off x="5257800" y="6582600"/>
              <a:ext cx="3809880" cy="21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b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ick the right pit stop to win the rac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829"/>
          <p:cNvGrpSpPr/>
          <p:nvPr/>
        </p:nvGrpSpPr>
        <p:grpSpPr>
          <a:xfrm>
            <a:off x="1440" y="1425600"/>
            <a:ext cx="9141120" cy="5430960"/>
            <a:chOff x="1440" y="1425600"/>
            <a:chExt cx="9141120" cy="5430960"/>
          </a:xfrm>
        </p:grpSpPr>
        <p:pic>
          <p:nvPicPr>
            <p:cNvPr id="42" name="Picture 1035" descr="TN00734_"/>
            <p:cNvPicPr/>
            <p:nvPr/>
          </p:nvPicPr>
          <p:blipFill>
            <a:blip r:embed="rId2"/>
            <a:stretch/>
          </p:blipFill>
          <p:spPr>
            <a:xfrm>
              <a:off x="1440" y="1425600"/>
              <a:ext cx="9141120" cy="542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Group 4642"/>
            <p:cNvGrpSpPr/>
            <p:nvPr/>
          </p:nvGrpSpPr>
          <p:grpSpPr>
            <a:xfrm>
              <a:off x="2133720" y="4453200"/>
              <a:ext cx="4580640" cy="2403360"/>
              <a:chOff x="2133720" y="4453200"/>
              <a:chExt cx="4580640" cy="2403360"/>
            </a:xfrm>
          </p:grpSpPr>
          <p:sp>
            <p:nvSpPr>
              <p:cNvPr id="44" name="Freeform 4643"/>
              <p:cNvSpPr/>
              <p:nvPr/>
            </p:nvSpPr>
            <p:spPr>
              <a:xfrm>
                <a:off x="2133720" y="4489920"/>
                <a:ext cx="4580640" cy="2005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644"/>
              <p:cNvSpPr/>
              <p:nvPr/>
            </p:nvSpPr>
            <p:spPr>
              <a:xfrm>
                <a:off x="2133720" y="5838120"/>
                <a:ext cx="1671840" cy="5090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45"/>
              <p:cNvSpPr/>
              <p:nvPr/>
            </p:nvSpPr>
            <p:spPr>
              <a:xfrm>
                <a:off x="2281680" y="5434920"/>
                <a:ext cx="4376880" cy="11894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Freeform 4646"/>
              <p:cNvSpPr/>
              <p:nvPr/>
            </p:nvSpPr>
            <p:spPr>
              <a:xfrm>
                <a:off x="5810760" y="5707800"/>
                <a:ext cx="731880" cy="4262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Freeform 4647"/>
              <p:cNvSpPr/>
              <p:nvPr/>
            </p:nvSpPr>
            <p:spPr>
              <a:xfrm>
                <a:off x="5834160" y="6013440"/>
                <a:ext cx="653040" cy="22680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Freeform 4648"/>
              <p:cNvSpPr/>
              <p:nvPr/>
            </p:nvSpPr>
            <p:spPr>
              <a:xfrm>
                <a:off x="5820480" y="6032520"/>
                <a:ext cx="672120" cy="29592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Freeform 4649"/>
              <p:cNvSpPr/>
              <p:nvPr/>
            </p:nvSpPr>
            <p:spPr>
              <a:xfrm>
                <a:off x="2415960" y="6004080"/>
                <a:ext cx="2875680" cy="393480"/>
              </a:xfrm>
              <a:prstGeom prst="pie">
                <a:avLst/>
              </a:pr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Freeform 4650"/>
              <p:cNvSpPr/>
              <p:nvPr/>
            </p:nvSpPr>
            <p:spPr>
              <a:xfrm>
                <a:off x="2522160" y="6036480"/>
                <a:ext cx="1773720" cy="23616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4651"/>
              <p:cNvSpPr/>
              <p:nvPr/>
            </p:nvSpPr>
            <p:spPr>
              <a:xfrm>
                <a:off x="2152440" y="4851000"/>
                <a:ext cx="4478760" cy="1459440"/>
              </a:xfrm>
              <a:prstGeom prst="pie">
                <a:avLst/>
              </a:pr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4652"/>
              <p:cNvSpPr/>
              <p:nvPr/>
            </p:nvSpPr>
            <p:spPr>
              <a:xfrm>
                <a:off x="3254400" y="4514040"/>
                <a:ext cx="2404080" cy="57312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4653"/>
              <p:cNvSpPr/>
              <p:nvPr/>
            </p:nvSpPr>
            <p:spPr>
              <a:xfrm>
                <a:off x="5649120" y="4537080"/>
                <a:ext cx="495720" cy="61956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4654"/>
              <p:cNvSpPr/>
              <p:nvPr/>
            </p:nvSpPr>
            <p:spPr>
              <a:xfrm>
                <a:off x="3555720" y="4638960"/>
                <a:ext cx="707760" cy="3841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4655"/>
              <p:cNvSpPr/>
              <p:nvPr/>
            </p:nvSpPr>
            <p:spPr>
              <a:xfrm>
                <a:off x="3402360" y="4596840"/>
                <a:ext cx="555480" cy="4302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4656"/>
              <p:cNvSpPr/>
              <p:nvPr/>
            </p:nvSpPr>
            <p:spPr>
              <a:xfrm>
                <a:off x="4407480" y="4689360"/>
                <a:ext cx="199440" cy="1764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4657"/>
              <p:cNvSpPr/>
              <p:nvPr/>
            </p:nvSpPr>
            <p:spPr>
              <a:xfrm>
                <a:off x="4653360" y="4619880"/>
                <a:ext cx="874800" cy="2822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4658"/>
              <p:cNvSpPr/>
              <p:nvPr/>
            </p:nvSpPr>
            <p:spPr>
              <a:xfrm>
                <a:off x="5695200" y="4578120"/>
                <a:ext cx="426240" cy="4125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4659"/>
              <p:cNvSpPr/>
              <p:nvPr/>
            </p:nvSpPr>
            <p:spPr>
              <a:xfrm>
                <a:off x="2327760" y="5069520"/>
                <a:ext cx="2904120" cy="3654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4660"/>
              <p:cNvSpPr/>
              <p:nvPr/>
            </p:nvSpPr>
            <p:spPr>
              <a:xfrm>
                <a:off x="2629440" y="5398200"/>
                <a:ext cx="2598480" cy="7632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4661"/>
              <p:cNvSpPr/>
              <p:nvPr/>
            </p:nvSpPr>
            <p:spPr>
              <a:xfrm>
                <a:off x="4060080" y="4458240"/>
                <a:ext cx="2538720" cy="93456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4662"/>
              <p:cNvSpPr/>
              <p:nvPr/>
            </p:nvSpPr>
            <p:spPr>
              <a:xfrm>
                <a:off x="5927400" y="4948560"/>
                <a:ext cx="309600" cy="2782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4663"/>
              <p:cNvSpPr/>
              <p:nvPr/>
            </p:nvSpPr>
            <p:spPr>
              <a:xfrm>
                <a:off x="2415960" y="6064920"/>
                <a:ext cx="222480" cy="26856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4664"/>
              <p:cNvSpPr/>
              <p:nvPr/>
            </p:nvSpPr>
            <p:spPr>
              <a:xfrm>
                <a:off x="2833200" y="6176160"/>
                <a:ext cx="2278080" cy="2170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4665"/>
              <p:cNvSpPr/>
              <p:nvPr/>
            </p:nvSpPr>
            <p:spPr>
              <a:xfrm>
                <a:off x="2851920" y="5486400"/>
                <a:ext cx="2291760" cy="56916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4666"/>
              <p:cNvSpPr/>
              <p:nvPr/>
            </p:nvSpPr>
            <p:spPr>
              <a:xfrm>
                <a:off x="2439360" y="6105960"/>
                <a:ext cx="194040" cy="21312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4667"/>
              <p:cNvSpPr/>
              <p:nvPr/>
            </p:nvSpPr>
            <p:spPr>
              <a:xfrm>
                <a:off x="2443320" y="5115600"/>
                <a:ext cx="2052360" cy="24048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4668"/>
              <p:cNvSpPr/>
              <p:nvPr/>
            </p:nvSpPr>
            <p:spPr>
              <a:xfrm>
                <a:off x="3684960" y="5087160"/>
                <a:ext cx="564840" cy="3780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4669"/>
              <p:cNvSpPr/>
              <p:nvPr/>
            </p:nvSpPr>
            <p:spPr>
              <a:xfrm>
                <a:off x="5936040" y="4967640"/>
                <a:ext cx="273960" cy="24444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4670"/>
              <p:cNvSpPr/>
              <p:nvPr/>
            </p:nvSpPr>
            <p:spPr>
              <a:xfrm>
                <a:off x="4601880" y="4453200"/>
                <a:ext cx="2046960" cy="98172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4671"/>
              <p:cNvSpPr/>
              <p:nvPr/>
            </p:nvSpPr>
            <p:spPr>
              <a:xfrm>
                <a:off x="4296240" y="5578920"/>
                <a:ext cx="106920" cy="8820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4672"/>
              <p:cNvSpPr/>
              <p:nvPr/>
            </p:nvSpPr>
            <p:spPr>
              <a:xfrm>
                <a:off x="3198600" y="5657400"/>
                <a:ext cx="1731960" cy="32868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4673"/>
              <p:cNvSpPr/>
              <p:nvPr/>
            </p:nvSpPr>
            <p:spPr>
              <a:xfrm>
                <a:off x="3152520" y="6338160"/>
                <a:ext cx="1102680" cy="3240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4674"/>
              <p:cNvSpPr/>
              <p:nvPr/>
            </p:nvSpPr>
            <p:spPr>
              <a:xfrm>
                <a:off x="4347720" y="6301080"/>
                <a:ext cx="582840" cy="6912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4675"/>
              <p:cNvSpPr/>
              <p:nvPr/>
            </p:nvSpPr>
            <p:spPr>
              <a:xfrm>
                <a:off x="2443320" y="6184800"/>
                <a:ext cx="180360" cy="12996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4676"/>
              <p:cNvSpPr/>
              <p:nvPr/>
            </p:nvSpPr>
            <p:spPr>
              <a:xfrm>
                <a:off x="3754440" y="5092560"/>
                <a:ext cx="398880" cy="2700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Freeform 4677"/>
              <p:cNvSpPr/>
              <p:nvPr/>
            </p:nvSpPr>
            <p:spPr>
              <a:xfrm>
                <a:off x="2559960" y="5119920"/>
                <a:ext cx="1361160" cy="18036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4678"/>
              <p:cNvSpPr/>
              <p:nvPr/>
            </p:nvSpPr>
            <p:spPr>
              <a:xfrm>
                <a:off x="5941080" y="4981320"/>
                <a:ext cx="240480" cy="22248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4679"/>
              <p:cNvSpPr/>
              <p:nvPr/>
            </p:nvSpPr>
            <p:spPr>
              <a:xfrm>
                <a:off x="5968440" y="4596840"/>
                <a:ext cx="704520" cy="84744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4680"/>
              <p:cNvSpPr/>
              <p:nvPr/>
            </p:nvSpPr>
            <p:spPr>
              <a:xfrm>
                <a:off x="3430800" y="5690160"/>
                <a:ext cx="1468080" cy="26352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4681"/>
              <p:cNvSpPr/>
              <p:nvPr/>
            </p:nvSpPr>
            <p:spPr>
              <a:xfrm>
                <a:off x="2448720" y="6217200"/>
                <a:ext cx="175320" cy="932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Freeform 4682"/>
              <p:cNvSpPr/>
              <p:nvPr/>
            </p:nvSpPr>
            <p:spPr>
              <a:xfrm>
                <a:off x="4365720" y="6310800"/>
                <a:ext cx="518760" cy="5436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4683"/>
              <p:cNvSpPr/>
              <p:nvPr/>
            </p:nvSpPr>
            <p:spPr>
              <a:xfrm>
                <a:off x="5959080" y="4990680"/>
                <a:ext cx="199440" cy="18468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4684"/>
              <p:cNvSpPr/>
              <p:nvPr/>
            </p:nvSpPr>
            <p:spPr>
              <a:xfrm>
                <a:off x="2777400" y="5129280"/>
                <a:ext cx="541800" cy="9216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4685"/>
              <p:cNvSpPr/>
              <p:nvPr/>
            </p:nvSpPr>
            <p:spPr>
              <a:xfrm>
                <a:off x="3675600" y="6347520"/>
                <a:ext cx="537480" cy="176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4686"/>
              <p:cNvSpPr/>
              <p:nvPr/>
            </p:nvSpPr>
            <p:spPr>
              <a:xfrm>
                <a:off x="6371640" y="4981320"/>
                <a:ext cx="305640" cy="4766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4687"/>
              <p:cNvSpPr/>
              <p:nvPr/>
            </p:nvSpPr>
            <p:spPr>
              <a:xfrm>
                <a:off x="4375080" y="6319080"/>
                <a:ext cx="445320" cy="4176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4688"/>
              <p:cNvSpPr/>
              <p:nvPr/>
            </p:nvSpPr>
            <p:spPr>
              <a:xfrm>
                <a:off x="2452680" y="6240240"/>
                <a:ext cx="162720" cy="6084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4689"/>
              <p:cNvSpPr/>
              <p:nvPr/>
            </p:nvSpPr>
            <p:spPr>
              <a:xfrm>
                <a:off x="3675600" y="5717520"/>
                <a:ext cx="1208880" cy="21312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4690"/>
              <p:cNvSpPr/>
              <p:nvPr/>
            </p:nvSpPr>
            <p:spPr>
              <a:xfrm>
                <a:off x="5973840" y="5004360"/>
                <a:ext cx="161640" cy="13428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4691"/>
              <p:cNvSpPr/>
              <p:nvPr/>
            </p:nvSpPr>
            <p:spPr>
              <a:xfrm>
                <a:off x="2327760" y="6458760"/>
                <a:ext cx="820080" cy="323280"/>
              </a:xfrm>
              <a:prstGeom prst="pie">
                <a:avLst/>
              </a:pr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4692"/>
              <p:cNvSpPr/>
              <p:nvPr/>
            </p:nvSpPr>
            <p:spPr>
              <a:xfrm>
                <a:off x="2944440" y="5832720"/>
                <a:ext cx="634320" cy="361080"/>
              </a:xfrm>
              <a:prstGeom prst="pie">
                <a:avLst/>
              </a:pr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4693"/>
              <p:cNvSpPr/>
              <p:nvPr/>
            </p:nvSpPr>
            <p:spPr>
              <a:xfrm>
                <a:off x="6233040" y="5513760"/>
                <a:ext cx="467280" cy="907200"/>
              </a:xfrm>
              <a:prstGeom prst="pie">
                <a:avLst/>
              </a:pr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4694"/>
              <p:cNvSpPr/>
              <p:nvPr/>
            </p:nvSpPr>
            <p:spPr>
              <a:xfrm>
                <a:off x="5144040" y="5671080"/>
                <a:ext cx="662760" cy="1157040"/>
              </a:xfrm>
              <a:prstGeom prst="pie">
                <a:avLst/>
              </a:pr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4695"/>
              <p:cNvSpPr/>
              <p:nvPr/>
            </p:nvSpPr>
            <p:spPr>
              <a:xfrm>
                <a:off x="5459040" y="5861160"/>
                <a:ext cx="259200" cy="8240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4696"/>
              <p:cNvSpPr/>
              <p:nvPr/>
            </p:nvSpPr>
            <p:spPr>
              <a:xfrm>
                <a:off x="6506280" y="5726880"/>
                <a:ext cx="157320" cy="620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4697"/>
              <p:cNvSpPr/>
              <p:nvPr/>
            </p:nvSpPr>
            <p:spPr>
              <a:xfrm>
                <a:off x="5524200" y="6092280"/>
                <a:ext cx="138600" cy="361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4698"/>
              <p:cNvSpPr/>
              <p:nvPr/>
            </p:nvSpPr>
            <p:spPr>
              <a:xfrm>
                <a:off x="5583960" y="5861160"/>
                <a:ext cx="111240" cy="213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4699"/>
              <p:cNvSpPr/>
              <p:nvPr/>
            </p:nvSpPr>
            <p:spPr>
              <a:xfrm>
                <a:off x="5468400" y="6467040"/>
                <a:ext cx="128880" cy="213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4700"/>
              <p:cNvSpPr/>
              <p:nvPr/>
            </p:nvSpPr>
            <p:spPr>
              <a:xfrm>
                <a:off x="6510600" y="5731200"/>
                <a:ext cx="153000" cy="551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4701"/>
              <p:cNvSpPr/>
              <p:nvPr/>
            </p:nvSpPr>
            <p:spPr>
              <a:xfrm>
                <a:off x="2175480" y="5439240"/>
                <a:ext cx="328680" cy="297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4702"/>
              <p:cNvSpPr/>
              <p:nvPr/>
            </p:nvSpPr>
            <p:spPr>
              <a:xfrm>
                <a:off x="2522160" y="5578920"/>
                <a:ext cx="208800" cy="207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4703"/>
              <p:cNvSpPr/>
              <p:nvPr/>
            </p:nvSpPr>
            <p:spPr>
              <a:xfrm>
                <a:off x="3967560" y="5605920"/>
                <a:ext cx="272880" cy="199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4704"/>
              <p:cNvSpPr/>
              <p:nvPr/>
            </p:nvSpPr>
            <p:spPr>
              <a:xfrm>
                <a:off x="4370760" y="5434920"/>
                <a:ext cx="851760" cy="328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4705"/>
              <p:cNvSpPr/>
              <p:nvPr/>
            </p:nvSpPr>
            <p:spPr>
              <a:xfrm>
                <a:off x="2198520" y="5477040"/>
                <a:ext cx="286560" cy="244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4706"/>
              <p:cNvSpPr/>
              <p:nvPr/>
            </p:nvSpPr>
            <p:spPr>
              <a:xfrm>
                <a:off x="2522160" y="5582880"/>
                <a:ext cx="213120" cy="18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4707"/>
              <p:cNvSpPr/>
              <p:nvPr/>
            </p:nvSpPr>
            <p:spPr>
              <a:xfrm>
                <a:off x="4421160" y="5439240"/>
                <a:ext cx="768600" cy="2916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4708"/>
              <p:cNvSpPr/>
              <p:nvPr/>
            </p:nvSpPr>
            <p:spPr>
              <a:xfrm>
                <a:off x="3963240" y="5605920"/>
                <a:ext cx="268560" cy="199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4709"/>
              <p:cNvSpPr/>
              <p:nvPr/>
            </p:nvSpPr>
            <p:spPr>
              <a:xfrm>
                <a:off x="3809880" y="5731200"/>
                <a:ext cx="10890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4710"/>
              <p:cNvSpPr/>
              <p:nvPr/>
            </p:nvSpPr>
            <p:spPr>
              <a:xfrm>
                <a:off x="2458080" y="6245640"/>
                <a:ext cx="138600" cy="50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4711"/>
              <p:cNvSpPr/>
              <p:nvPr/>
            </p:nvSpPr>
            <p:spPr>
              <a:xfrm>
                <a:off x="4375080" y="6328440"/>
                <a:ext cx="37476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4712"/>
              <p:cNvSpPr/>
              <p:nvPr/>
            </p:nvSpPr>
            <p:spPr>
              <a:xfrm>
                <a:off x="5556600" y="5921280"/>
                <a:ext cx="8280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4713"/>
              <p:cNvSpPr/>
              <p:nvPr/>
            </p:nvSpPr>
            <p:spPr>
              <a:xfrm>
                <a:off x="5626080" y="6184800"/>
                <a:ext cx="69120" cy="403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4714"/>
              <p:cNvSpPr/>
              <p:nvPr/>
            </p:nvSpPr>
            <p:spPr>
              <a:xfrm>
                <a:off x="5514840" y="6490440"/>
                <a:ext cx="64800" cy="12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4715"/>
              <p:cNvSpPr/>
              <p:nvPr/>
            </p:nvSpPr>
            <p:spPr>
              <a:xfrm>
                <a:off x="5519880" y="6222600"/>
                <a:ext cx="4608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4716"/>
              <p:cNvSpPr/>
              <p:nvPr/>
            </p:nvSpPr>
            <p:spPr>
              <a:xfrm>
                <a:off x="5987520" y="5013720"/>
                <a:ext cx="120600" cy="96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4717"/>
              <p:cNvSpPr/>
              <p:nvPr/>
            </p:nvSpPr>
            <p:spPr>
              <a:xfrm>
                <a:off x="6547320" y="5782320"/>
                <a:ext cx="4176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4718"/>
              <p:cNvSpPr/>
              <p:nvPr/>
            </p:nvSpPr>
            <p:spPr>
              <a:xfrm>
                <a:off x="6533640" y="6022800"/>
                <a:ext cx="32400" cy="7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719"/>
              <p:cNvSpPr/>
              <p:nvPr/>
            </p:nvSpPr>
            <p:spPr>
              <a:xfrm>
                <a:off x="6552360" y="625932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4720"/>
              <p:cNvSpPr/>
              <p:nvPr/>
            </p:nvSpPr>
            <p:spPr>
              <a:xfrm>
                <a:off x="6602760" y="6105960"/>
                <a:ext cx="32400" cy="7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4721"/>
              <p:cNvSpPr/>
              <p:nvPr/>
            </p:nvSpPr>
            <p:spPr>
              <a:xfrm>
                <a:off x="2327760" y="5463360"/>
                <a:ext cx="120600" cy="92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4722"/>
              <p:cNvSpPr/>
              <p:nvPr/>
            </p:nvSpPr>
            <p:spPr>
              <a:xfrm>
                <a:off x="2202840" y="5588280"/>
                <a:ext cx="7452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4723"/>
              <p:cNvSpPr/>
              <p:nvPr/>
            </p:nvSpPr>
            <p:spPr>
              <a:xfrm>
                <a:off x="2318400" y="5643720"/>
                <a:ext cx="55440" cy="7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4724"/>
              <p:cNvSpPr/>
              <p:nvPr/>
            </p:nvSpPr>
            <p:spPr>
              <a:xfrm>
                <a:off x="2583000" y="5643720"/>
                <a:ext cx="10584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4725"/>
              <p:cNvSpPr/>
              <p:nvPr/>
            </p:nvSpPr>
            <p:spPr>
              <a:xfrm>
                <a:off x="4130280" y="5625000"/>
                <a:ext cx="82800" cy="92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4726"/>
              <p:cNvSpPr/>
              <p:nvPr/>
            </p:nvSpPr>
            <p:spPr>
              <a:xfrm>
                <a:off x="4398120" y="5648040"/>
                <a:ext cx="199440" cy="82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4727"/>
              <p:cNvSpPr/>
              <p:nvPr/>
            </p:nvSpPr>
            <p:spPr>
              <a:xfrm>
                <a:off x="4607280" y="5523120"/>
                <a:ext cx="7848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4728"/>
              <p:cNvSpPr/>
              <p:nvPr/>
            </p:nvSpPr>
            <p:spPr>
              <a:xfrm>
                <a:off x="4801320" y="5680800"/>
                <a:ext cx="6480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4729"/>
              <p:cNvSpPr/>
              <p:nvPr/>
            </p:nvSpPr>
            <p:spPr>
              <a:xfrm>
                <a:off x="5074560" y="5504040"/>
                <a:ext cx="36720" cy="6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4730"/>
              <p:cNvSpPr/>
              <p:nvPr/>
            </p:nvSpPr>
            <p:spPr>
              <a:xfrm>
                <a:off x="4930560" y="5667120"/>
                <a:ext cx="18576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4731"/>
              <p:cNvSpPr/>
              <p:nvPr/>
            </p:nvSpPr>
            <p:spPr>
              <a:xfrm>
                <a:off x="5389560" y="5721480"/>
                <a:ext cx="268560" cy="1000440"/>
              </a:xfrm>
              <a:prstGeom prst="pie">
                <a:avLst/>
              </a:pr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4732"/>
              <p:cNvSpPr/>
              <p:nvPr/>
            </p:nvSpPr>
            <p:spPr>
              <a:xfrm>
                <a:off x="6562080" y="5611320"/>
                <a:ext cx="73440" cy="105840"/>
              </a:xfrm>
              <a:prstGeom prst="pie">
                <a:avLst/>
              </a:pr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4733"/>
              <p:cNvSpPr/>
              <p:nvPr/>
            </p:nvSpPr>
            <p:spPr>
              <a:xfrm>
                <a:off x="6464160" y="6194160"/>
                <a:ext cx="74520" cy="185760"/>
              </a:xfrm>
              <a:prstGeom prst="pie">
                <a:avLst/>
              </a:pr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4734"/>
              <p:cNvSpPr/>
              <p:nvPr/>
            </p:nvSpPr>
            <p:spPr>
              <a:xfrm>
                <a:off x="6598800" y="5972400"/>
                <a:ext cx="36720" cy="460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4735"/>
              <p:cNvSpPr/>
              <p:nvPr/>
            </p:nvSpPr>
            <p:spPr>
              <a:xfrm>
                <a:off x="6515640" y="6046200"/>
                <a:ext cx="87120" cy="1994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4736"/>
              <p:cNvSpPr/>
              <p:nvPr/>
            </p:nvSpPr>
            <p:spPr>
              <a:xfrm>
                <a:off x="5574600" y="6115320"/>
                <a:ext cx="60840" cy="9216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4737"/>
              <p:cNvSpPr/>
              <p:nvPr/>
            </p:nvSpPr>
            <p:spPr>
              <a:xfrm>
                <a:off x="5537880" y="6249960"/>
                <a:ext cx="106920" cy="1666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4738"/>
              <p:cNvSpPr/>
              <p:nvPr/>
            </p:nvSpPr>
            <p:spPr>
              <a:xfrm>
                <a:off x="5468400" y="6476760"/>
                <a:ext cx="46080" cy="11520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4739"/>
              <p:cNvSpPr/>
              <p:nvPr/>
            </p:nvSpPr>
            <p:spPr>
              <a:xfrm>
                <a:off x="2962440" y="5851800"/>
                <a:ext cx="579600" cy="318960"/>
              </a:xfrm>
              <a:prstGeom prst="pie">
                <a:avLst/>
              </a:pr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4740"/>
              <p:cNvSpPr/>
              <p:nvPr/>
            </p:nvSpPr>
            <p:spPr>
              <a:xfrm>
                <a:off x="3361320" y="5861160"/>
                <a:ext cx="175320" cy="101520"/>
              </a:xfrm>
              <a:prstGeom prst="pie">
                <a:avLst/>
              </a:pr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4741"/>
              <p:cNvSpPr/>
              <p:nvPr/>
            </p:nvSpPr>
            <p:spPr>
              <a:xfrm>
                <a:off x="2944440" y="5893920"/>
                <a:ext cx="184680" cy="29592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4742"/>
              <p:cNvSpPr/>
              <p:nvPr/>
            </p:nvSpPr>
            <p:spPr>
              <a:xfrm>
                <a:off x="2971800" y="5861160"/>
                <a:ext cx="560880" cy="29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743"/>
              <p:cNvSpPr/>
              <p:nvPr/>
            </p:nvSpPr>
            <p:spPr>
              <a:xfrm>
                <a:off x="3425400" y="5874840"/>
                <a:ext cx="101880" cy="55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744"/>
              <p:cNvSpPr/>
              <p:nvPr/>
            </p:nvSpPr>
            <p:spPr>
              <a:xfrm>
                <a:off x="5107320" y="5897880"/>
                <a:ext cx="176400" cy="921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745"/>
              <p:cNvSpPr/>
              <p:nvPr/>
            </p:nvSpPr>
            <p:spPr>
              <a:xfrm>
                <a:off x="3694320" y="4662000"/>
                <a:ext cx="541800" cy="23076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746"/>
              <p:cNvSpPr/>
              <p:nvPr/>
            </p:nvSpPr>
            <p:spPr>
              <a:xfrm>
                <a:off x="4453920" y="4703040"/>
                <a:ext cx="92160" cy="6912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747"/>
              <p:cNvSpPr/>
              <p:nvPr/>
            </p:nvSpPr>
            <p:spPr>
              <a:xfrm>
                <a:off x="4709160" y="4662000"/>
                <a:ext cx="786600" cy="14796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748"/>
              <p:cNvSpPr/>
              <p:nvPr/>
            </p:nvSpPr>
            <p:spPr>
              <a:xfrm>
                <a:off x="5695200" y="4666320"/>
                <a:ext cx="310680" cy="23184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749"/>
              <p:cNvSpPr/>
              <p:nvPr/>
            </p:nvSpPr>
            <p:spPr>
              <a:xfrm>
                <a:off x="5875920" y="5726880"/>
                <a:ext cx="499680" cy="82800"/>
              </a:xfrm>
              <a:prstGeom prst="pie">
                <a:avLst/>
              </a:pr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4750"/>
              <p:cNvSpPr/>
              <p:nvPr/>
            </p:nvSpPr>
            <p:spPr>
              <a:xfrm>
                <a:off x="2137680" y="5888520"/>
                <a:ext cx="606960" cy="3841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4751"/>
              <p:cNvSpPr/>
              <p:nvPr/>
            </p:nvSpPr>
            <p:spPr>
              <a:xfrm>
                <a:off x="2337480" y="6314760"/>
                <a:ext cx="2982960" cy="2538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4752"/>
              <p:cNvSpPr/>
              <p:nvPr/>
            </p:nvSpPr>
            <p:spPr>
              <a:xfrm>
                <a:off x="5829840" y="5457960"/>
                <a:ext cx="741240" cy="3013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4753"/>
              <p:cNvSpPr/>
              <p:nvPr/>
            </p:nvSpPr>
            <p:spPr>
              <a:xfrm>
                <a:off x="5741640" y="5999760"/>
                <a:ext cx="754920" cy="4816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4754"/>
              <p:cNvSpPr/>
              <p:nvPr/>
            </p:nvSpPr>
            <p:spPr>
              <a:xfrm>
                <a:off x="5839200" y="5995800"/>
                <a:ext cx="323280" cy="1195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Freeform 4755"/>
              <p:cNvSpPr/>
              <p:nvPr/>
            </p:nvSpPr>
            <p:spPr>
              <a:xfrm>
                <a:off x="5074560" y="5106240"/>
                <a:ext cx="653040" cy="26856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Freeform 4756"/>
              <p:cNvSpPr/>
              <p:nvPr/>
            </p:nvSpPr>
            <p:spPr>
              <a:xfrm>
                <a:off x="5866560" y="5897880"/>
                <a:ext cx="570240" cy="460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Freeform 4757"/>
              <p:cNvSpPr/>
              <p:nvPr/>
            </p:nvSpPr>
            <p:spPr>
              <a:xfrm>
                <a:off x="5954760" y="5740560"/>
                <a:ext cx="263520" cy="460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4758"/>
              <p:cNvSpPr/>
              <p:nvPr/>
            </p:nvSpPr>
            <p:spPr>
              <a:xfrm>
                <a:off x="5676480" y="5092560"/>
                <a:ext cx="593280" cy="28656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4759"/>
              <p:cNvSpPr/>
              <p:nvPr/>
            </p:nvSpPr>
            <p:spPr>
              <a:xfrm>
                <a:off x="5088240" y="5888520"/>
                <a:ext cx="13968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4760"/>
              <p:cNvSpPr/>
              <p:nvPr/>
            </p:nvSpPr>
            <p:spPr>
              <a:xfrm>
                <a:off x="6431760" y="5296320"/>
                <a:ext cx="60840" cy="32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4761"/>
              <p:cNvSpPr/>
              <p:nvPr/>
            </p:nvSpPr>
            <p:spPr>
              <a:xfrm>
                <a:off x="6320160" y="5282640"/>
                <a:ext cx="784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4762"/>
              <p:cNvSpPr/>
              <p:nvPr/>
            </p:nvSpPr>
            <p:spPr>
              <a:xfrm>
                <a:off x="2160720" y="6222600"/>
                <a:ext cx="3488040" cy="63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4763"/>
              <p:cNvSpPr/>
              <p:nvPr/>
            </p:nvSpPr>
            <p:spPr>
              <a:xfrm>
                <a:off x="2415960" y="5832720"/>
                <a:ext cx="1833840" cy="47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Freeform 4764"/>
              <p:cNvSpPr/>
              <p:nvPr/>
            </p:nvSpPr>
            <p:spPr>
              <a:xfrm>
                <a:off x="3031560" y="5828760"/>
                <a:ext cx="1279080" cy="50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Freeform 4765"/>
              <p:cNvSpPr/>
              <p:nvPr/>
            </p:nvSpPr>
            <p:spPr>
              <a:xfrm>
                <a:off x="5375880" y="5500080"/>
                <a:ext cx="420840" cy="61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Freeform 4766"/>
              <p:cNvSpPr/>
              <p:nvPr/>
            </p:nvSpPr>
            <p:spPr>
              <a:xfrm>
                <a:off x="5454720" y="5851800"/>
                <a:ext cx="300240" cy="89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Freeform 4767"/>
              <p:cNvSpPr/>
              <p:nvPr/>
            </p:nvSpPr>
            <p:spPr>
              <a:xfrm>
                <a:off x="5487480" y="6064920"/>
                <a:ext cx="7848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Freeform 4768"/>
              <p:cNvSpPr/>
              <p:nvPr/>
            </p:nvSpPr>
            <p:spPr>
              <a:xfrm>
                <a:off x="5556600" y="5893920"/>
                <a:ext cx="111240" cy="21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Freeform 4769"/>
              <p:cNvSpPr/>
              <p:nvPr/>
            </p:nvSpPr>
            <p:spPr>
              <a:xfrm>
                <a:off x="5566320" y="5986080"/>
                <a:ext cx="133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Freeform 4770"/>
              <p:cNvSpPr/>
              <p:nvPr/>
            </p:nvSpPr>
            <p:spPr>
              <a:xfrm>
                <a:off x="5616720" y="6153120"/>
                <a:ext cx="74520" cy="43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Freeform 4771"/>
              <p:cNvSpPr/>
              <p:nvPr/>
            </p:nvSpPr>
            <p:spPr>
              <a:xfrm>
                <a:off x="5662800" y="6087960"/>
                <a:ext cx="2808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4772"/>
              <p:cNvSpPr/>
              <p:nvPr/>
            </p:nvSpPr>
            <p:spPr>
              <a:xfrm>
                <a:off x="5487480" y="6255000"/>
                <a:ext cx="871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4773"/>
              <p:cNvSpPr/>
              <p:nvPr/>
            </p:nvSpPr>
            <p:spPr>
              <a:xfrm>
                <a:off x="5505120" y="6407280"/>
                <a:ext cx="97560" cy="15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4774"/>
              <p:cNvSpPr/>
              <p:nvPr/>
            </p:nvSpPr>
            <p:spPr>
              <a:xfrm>
                <a:off x="5524200" y="6490440"/>
                <a:ext cx="78480" cy="14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4775"/>
              <p:cNvSpPr/>
              <p:nvPr/>
            </p:nvSpPr>
            <p:spPr>
              <a:xfrm>
                <a:off x="5741640" y="6046200"/>
                <a:ext cx="64800" cy="36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4776"/>
              <p:cNvSpPr/>
              <p:nvPr/>
            </p:nvSpPr>
            <p:spPr>
              <a:xfrm>
                <a:off x="5672160" y="5907600"/>
                <a:ext cx="995400" cy="81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Freeform 4777"/>
              <p:cNvSpPr/>
              <p:nvPr/>
            </p:nvSpPr>
            <p:spPr>
              <a:xfrm>
                <a:off x="6556680" y="5870520"/>
                <a:ext cx="554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4778"/>
              <p:cNvSpPr/>
              <p:nvPr/>
            </p:nvSpPr>
            <p:spPr>
              <a:xfrm>
                <a:off x="6529320" y="5963040"/>
                <a:ext cx="417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Freeform 4779"/>
              <p:cNvSpPr/>
              <p:nvPr/>
            </p:nvSpPr>
            <p:spPr>
              <a:xfrm>
                <a:off x="6552360" y="6157440"/>
                <a:ext cx="367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Freeform 4780"/>
              <p:cNvSpPr/>
              <p:nvPr/>
            </p:nvSpPr>
            <p:spPr>
              <a:xfrm>
                <a:off x="6598800" y="6055560"/>
                <a:ext cx="367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Freeform 4781"/>
              <p:cNvSpPr/>
              <p:nvPr/>
            </p:nvSpPr>
            <p:spPr>
              <a:xfrm>
                <a:off x="6515640" y="5477040"/>
                <a:ext cx="194040" cy="62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Freeform 4782"/>
              <p:cNvSpPr/>
              <p:nvPr/>
            </p:nvSpPr>
            <p:spPr>
              <a:xfrm>
                <a:off x="6667920" y="5940000"/>
                <a:ext cx="280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4783"/>
              <p:cNvSpPr/>
              <p:nvPr/>
            </p:nvSpPr>
            <p:spPr>
              <a:xfrm>
                <a:off x="5732280" y="5439240"/>
                <a:ext cx="885240" cy="40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Freeform 4784"/>
              <p:cNvSpPr/>
              <p:nvPr/>
            </p:nvSpPr>
            <p:spPr>
              <a:xfrm>
                <a:off x="5862240" y="5648040"/>
                <a:ext cx="65736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Freeform 4785"/>
              <p:cNvSpPr/>
              <p:nvPr/>
            </p:nvSpPr>
            <p:spPr>
              <a:xfrm>
                <a:off x="5839200" y="5925240"/>
                <a:ext cx="661680" cy="28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Freeform 4786"/>
              <p:cNvSpPr/>
              <p:nvPr/>
            </p:nvSpPr>
            <p:spPr>
              <a:xfrm>
                <a:off x="5820480" y="5893920"/>
                <a:ext cx="208800" cy="22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Freeform 4787"/>
              <p:cNvSpPr/>
              <p:nvPr/>
            </p:nvSpPr>
            <p:spPr>
              <a:xfrm>
                <a:off x="5764680" y="4921200"/>
                <a:ext cx="523800" cy="37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4788"/>
              <p:cNvSpPr/>
              <p:nvPr/>
            </p:nvSpPr>
            <p:spPr>
              <a:xfrm>
                <a:off x="5691240" y="5175360"/>
                <a:ext cx="142560" cy="17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4789"/>
              <p:cNvSpPr/>
              <p:nvPr/>
            </p:nvSpPr>
            <p:spPr>
              <a:xfrm>
                <a:off x="5755320" y="5313960"/>
                <a:ext cx="847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4790"/>
              <p:cNvSpPr/>
              <p:nvPr/>
            </p:nvSpPr>
            <p:spPr>
              <a:xfrm>
                <a:off x="6293160" y="5250240"/>
                <a:ext cx="9756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4791"/>
              <p:cNvSpPr/>
              <p:nvPr/>
            </p:nvSpPr>
            <p:spPr>
              <a:xfrm>
                <a:off x="3184920" y="4453200"/>
                <a:ext cx="3519720" cy="110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4792"/>
              <p:cNvSpPr/>
              <p:nvPr/>
            </p:nvSpPr>
            <p:spPr>
              <a:xfrm>
                <a:off x="3519000" y="4578120"/>
                <a:ext cx="2037600" cy="50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4793"/>
              <p:cNvSpPr/>
              <p:nvPr/>
            </p:nvSpPr>
            <p:spPr>
              <a:xfrm>
                <a:off x="4949640" y="4952880"/>
                <a:ext cx="759240" cy="45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4794"/>
              <p:cNvSpPr/>
              <p:nvPr/>
            </p:nvSpPr>
            <p:spPr>
              <a:xfrm>
                <a:off x="5644800" y="4531680"/>
                <a:ext cx="513360" cy="61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4795"/>
              <p:cNvSpPr/>
              <p:nvPr/>
            </p:nvSpPr>
            <p:spPr>
              <a:xfrm>
                <a:off x="6014520" y="5189040"/>
                <a:ext cx="176400" cy="18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4796"/>
              <p:cNvSpPr/>
              <p:nvPr/>
            </p:nvSpPr>
            <p:spPr>
              <a:xfrm>
                <a:off x="2160720" y="5119920"/>
                <a:ext cx="982080" cy="60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4797"/>
              <p:cNvSpPr/>
              <p:nvPr/>
            </p:nvSpPr>
            <p:spPr>
              <a:xfrm>
                <a:off x="2476080" y="5532480"/>
                <a:ext cx="190404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4798"/>
              <p:cNvSpPr/>
              <p:nvPr/>
            </p:nvSpPr>
            <p:spPr>
              <a:xfrm>
                <a:off x="2277360" y="5726880"/>
                <a:ext cx="24444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4799"/>
              <p:cNvSpPr/>
              <p:nvPr/>
            </p:nvSpPr>
            <p:spPr>
              <a:xfrm>
                <a:off x="2415960" y="6078600"/>
                <a:ext cx="120600" cy="26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4800"/>
              <p:cNvSpPr/>
              <p:nvPr/>
            </p:nvSpPr>
            <p:spPr>
              <a:xfrm>
                <a:off x="2133720" y="5721480"/>
                <a:ext cx="286560" cy="53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4801"/>
              <p:cNvSpPr/>
              <p:nvPr/>
            </p:nvSpPr>
            <p:spPr>
              <a:xfrm>
                <a:off x="2522160" y="5582880"/>
                <a:ext cx="213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4802"/>
              <p:cNvSpPr/>
              <p:nvPr/>
            </p:nvSpPr>
            <p:spPr>
              <a:xfrm>
                <a:off x="2522160" y="5717520"/>
                <a:ext cx="18576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4803"/>
              <p:cNvSpPr/>
              <p:nvPr/>
            </p:nvSpPr>
            <p:spPr>
              <a:xfrm>
                <a:off x="2601000" y="5698440"/>
                <a:ext cx="11628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4804"/>
              <p:cNvSpPr/>
              <p:nvPr/>
            </p:nvSpPr>
            <p:spPr>
              <a:xfrm>
                <a:off x="2262600" y="5481000"/>
                <a:ext cx="21312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4805"/>
              <p:cNvSpPr/>
              <p:nvPr/>
            </p:nvSpPr>
            <p:spPr>
              <a:xfrm>
                <a:off x="2235600" y="5481000"/>
                <a:ext cx="975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Freeform 4806"/>
              <p:cNvSpPr/>
              <p:nvPr/>
            </p:nvSpPr>
            <p:spPr>
              <a:xfrm>
                <a:off x="2202840" y="5661720"/>
                <a:ext cx="10692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Freeform 4807"/>
              <p:cNvSpPr/>
              <p:nvPr/>
            </p:nvSpPr>
            <p:spPr>
              <a:xfrm>
                <a:off x="2397240" y="5675400"/>
                <a:ext cx="5544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Freeform 4808"/>
              <p:cNvSpPr/>
              <p:nvPr/>
            </p:nvSpPr>
            <p:spPr>
              <a:xfrm>
                <a:off x="3236400" y="5573520"/>
                <a:ext cx="184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Freeform 4809"/>
              <p:cNvSpPr/>
              <p:nvPr/>
            </p:nvSpPr>
            <p:spPr>
              <a:xfrm>
                <a:off x="3273120" y="5611320"/>
                <a:ext cx="367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Freeform 4810"/>
              <p:cNvSpPr/>
              <p:nvPr/>
            </p:nvSpPr>
            <p:spPr>
              <a:xfrm>
                <a:off x="3328920" y="5582880"/>
                <a:ext cx="230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Freeform 4811"/>
              <p:cNvSpPr/>
              <p:nvPr/>
            </p:nvSpPr>
            <p:spPr>
              <a:xfrm>
                <a:off x="4365720" y="5430600"/>
                <a:ext cx="564840" cy="28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Freeform 4812"/>
              <p:cNvSpPr/>
              <p:nvPr/>
            </p:nvSpPr>
            <p:spPr>
              <a:xfrm>
                <a:off x="4741560" y="5555520"/>
                <a:ext cx="16560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Freeform 4813"/>
              <p:cNvSpPr/>
              <p:nvPr/>
            </p:nvSpPr>
            <p:spPr>
              <a:xfrm>
                <a:off x="4440240" y="5536800"/>
                <a:ext cx="2728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Freeform 4814"/>
              <p:cNvSpPr/>
              <p:nvPr/>
            </p:nvSpPr>
            <p:spPr>
              <a:xfrm>
                <a:off x="4647960" y="5486400"/>
                <a:ext cx="97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Freeform 4815"/>
              <p:cNvSpPr/>
              <p:nvPr/>
            </p:nvSpPr>
            <p:spPr>
              <a:xfrm>
                <a:off x="4519080" y="5684760"/>
                <a:ext cx="23616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Freeform 4816"/>
              <p:cNvSpPr/>
              <p:nvPr/>
            </p:nvSpPr>
            <p:spPr>
              <a:xfrm>
                <a:off x="4945320" y="5463360"/>
                <a:ext cx="2444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Freeform 4817"/>
              <p:cNvSpPr/>
              <p:nvPr/>
            </p:nvSpPr>
            <p:spPr>
              <a:xfrm>
                <a:off x="4282560" y="5643720"/>
                <a:ext cx="94500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Freeform 4818"/>
              <p:cNvSpPr/>
              <p:nvPr/>
            </p:nvSpPr>
            <p:spPr>
              <a:xfrm>
                <a:off x="4959000" y="5434920"/>
                <a:ext cx="282240" cy="28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4819"/>
              <p:cNvSpPr/>
              <p:nvPr/>
            </p:nvSpPr>
            <p:spPr>
              <a:xfrm>
                <a:off x="3963240" y="5601960"/>
                <a:ext cx="184680" cy="21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4820"/>
              <p:cNvSpPr/>
              <p:nvPr/>
            </p:nvSpPr>
            <p:spPr>
              <a:xfrm>
                <a:off x="4107240" y="5703840"/>
                <a:ext cx="8280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4821"/>
              <p:cNvSpPr/>
              <p:nvPr/>
            </p:nvSpPr>
            <p:spPr>
              <a:xfrm>
                <a:off x="3949560" y="5629320"/>
                <a:ext cx="3672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Freeform 4822"/>
              <p:cNvSpPr/>
              <p:nvPr/>
            </p:nvSpPr>
            <p:spPr>
              <a:xfrm>
                <a:off x="4440240" y="5713200"/>
                <a:ext cx="995400" cy="57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Freeform 4823"/>
              <p:cNvSpPr/>
              <p:nvPr/>
            </p:nvSpPr>
            <p:spPr>
              <a:xfrm>
                <a:off x="5237280" y="6138360"/>
                <a:ext cx="101880" cy="13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Freeform 4824"/>
              <p:cNvSpPr/>
              <p:nvPr/>
            </p:nvSpPr>
            <p:spPr>
              <a:xfrm>
                <a:off x="6413760" y="5180760"/>
                <a:ext cx="5976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4825"/>
              <p:cNvSpPr/>
              <p:nvPr/>
            </p:nvSpPr>
            <p:spPr>
              <a:xfrm>
                <a:off x="5848560" y="5337360"/>
                <a:ext cx="78480" cy="90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Rectangle 4827"/>
          <p:cNvSpPr/>
          <p:nvPr/>
        </p:nvSpPr>
        <p:spPr>
          <a:xfrm>
            <a:off x="6095880" y="152280"/>
            <a:ext cx="1219320" cy="3812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4837"/>
          <p:cNvGrpSpPr/>
          <p:nvPr/>
        </p:nvGrpSpPr>
        <p:grpSpPr>
          <a:xfrm>
            <a:off x="304920" y="533520"/>
            <a:ext cx="8458200" cy="3452760"/>
            <a:chOff x="304920" y="533520"/>
            <a:chExt cx="8458200" cy="3452760"/>
          </a:xfrm>
        </p:grpSpPr>
        <p:sp>
          <p:nvSpPr>
            <p:cNvPr id="229" name="WordArt 1027"/>
            <p:cNvSpPr txBox="1"/>
            <p:nvPr/>
          </p:nvSpPr>
          <p:spPr>
            <a:xfrm>
              <a:off x="304920" y="533520"/>
              <a:ext cx="8458200" cy="34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Impact"/>
                </a:rPr>
                <a:t>Academic Raceway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Impact"/>
                </a:rPr>
                <a:t>500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grpSp>
          <p:nvGrpSpPr>
            <p:cNvPr id="230" name="Group 4836"/>
            <p:cNvGrpSpPr/>
            <p:nvPr/>
          </p:nvGrpSpPr>
          <p:grpSpPr>
            <a:xfrm>
              <a:off x="4191120" y="2502000"/>
              <a:ext cx="1285920" cy="1484280"/>
              <a:chOff x="4191120" y="2502000"/>
              <a:chExt cx="1285920" cy="1484280"/>
            </a:xfrm>
          </p:grpSpPr>
          <p:pic>
            <p:nvPicPr>
              <p:cNvPr id="231" name="Picture 1029" descr="tire"/>
              <p:cNvPicPr/>
              <p:nvPr/>
            </p:nvPicPr>
            <p:blipFill>
              <a:blip r:embed="rId7"/>
              <a:stretch/>
            </p:blipFill>
            <p:spPr>
              <a:xfrm>
                <a:off x="4191120" y="2502000"/>
                <a:ext cx="676080" cy="14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028" descr="tire"/>
              <p:cNvPicPr/>
              <p:nvPr/>
            </p:nvPicPr>
            <p:blipFill>
              <a:blip r:embed="rId8"/>
              <a:stretch/>
            </p:blipFill>
            <p:spPr>
              <a:xfrm>
                <a:off x="4800600" y="2502000"/>
                <a:ext cx="676440" cy="148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" Target="slide12.xml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3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slide" Target="slide14.xml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4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wmf"/><Relationship Id="rId7" Type="http://schemas.openxmlformats.org/officeDocument/2006/relationships/image" Target="../media/image25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27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8.wmf"/><Relationship Id="rId8" Type="http://schemas.openxmlformats.org/officeDocument/2006/relationships/slide" Target="slide18.xml"/><Relationship Id="rId9" Type="http://schemas.openxmlformats.org/officeDocument/2006/relationships/image" Target="../media/image18.wmf"/><Relationship Id="rId10" Type="http://schemas.openxmlformats.org/officeDocument/2006/relationships/audio" Target="../media/enginestart2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8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" Target="slide20.xml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9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slide" Target="slide22.xml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0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1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2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wmf"/><Relationship Id="rId7" Type="http://schemas.openxmlformats.org/officeDocument/2006/relationships/image" Target="../media/image25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34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audio" Target="../media/enginestart2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5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10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6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7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8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9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wmf"/><Relationship Id="rId7" Type="http://schemas.openxmlformats.org/officeDocument/2006/relationships/image" Target="../media/image40.gi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" Target="slide6.xml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audio" Target="../media/enginestart2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" Target="slide8.xml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slide" Target="slide10.xml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Academic Raceway 5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054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21" name="Group 1026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22" name="Group 1027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523" name="Picture 1028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Line 1029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Line 1030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Line 1031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Line 1032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033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Line 1034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Line 1035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Line 1036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1037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1038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Line 1039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Line 1040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6" name="Line 1049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050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051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052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0" name="Picture 1046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541" name="Line 1055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1056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1057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Line 1058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1059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060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061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1053" descr="TN00546_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549" name="WordArt 106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50" name="Group 1068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551" name="Rectangle 1069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2" name="Picture 1070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Group 107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554" name="Text Box 1072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ndu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5" name="Picture 1073" descr="Tool Box 05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6" name="Group 1074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557" name="Text Box 1075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s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8" name="Picture 1076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320" y="41907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a policière _____________ une au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4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38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61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62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563" name="Group 4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564" name="Picture 5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5" name="Line 6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Line 7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Line 8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Line 9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Line 10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Line 11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Line 12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13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14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15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Line 16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17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Line 18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Line 19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20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21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29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30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31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32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33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34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Line 39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Picture 27" descr="TN00546_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7" descr="TN00546_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2" descr="j0261380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8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593" name="Rectangle 49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4" name="Picture 50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WordArt 4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96" name="Group 51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597" name="Text Box 52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 faut continuer.  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8" name="Picture 53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3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38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01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02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03" name="Group 4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604" name="Picture 5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5" name="Line 6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Line 7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Line 8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Line 9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Line 10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Line 11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" name="Line 12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13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Line 14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Line 15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16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17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Line 18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Line 19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Line 20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Line 21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1" name="Line 29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30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31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32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33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34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35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28" name="Picture 27" descr="TN00546_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29" name="Line 39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Line 40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37" descr="TN00546_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32" name="WordArt 4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33" name="Group 50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634" name="Rectangle 48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5" name="Picture 49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6" name="Group 58"/>
          <p:cNvGrpSpPr/>
          <p:nvPr/>
        </p:nvGrpSpPr>
        <p:grpSpPr>
          <a:xfrm>
            <a:off x="44280" y="5715000"/>
            <a:ext cx="9099720" cy="674640"/>
            <a:chOff x="44280" y="5715000"/>
            <a:chExt cx="9099720" cy="674640"/>
          </a:xfrm>
        </p:grpSpPr>
        <p:sp>
          <p:nvSpPr>
            <p:cNvPr id="637" name="Text Box 52"/>
            <p:cNvSpPr/>
            <p:nvPr/>
          </p:nvSpPr>
          <p:spPr>
            <a:xfrm>
              <a:off x="1066680" y="57798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Picture 53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71500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Group 59"/>
          <p:cNvGrpSpPr/>
          <p:nvPr/>
        </p:nvGrpSpPr>
        <p:grpSpPr>
          <a:xfrm>
            <a:off x="44280" y="5029200"/>
            <a:ext cx="9099720" cy="674640"/>
            <a:chOff x="44280" y="5029200"/>
            <a:chExt cx="9099720" cy="674640"/>
          </a:xfrm>
        </p:grpSpPr>
        <p:sp>
          <p:nvSpPr>
            <p:cNvPr id="640" name="Text Box 55"/>
            <p:cNvSpPr/>
            <p:nvPr/>
          </p:nvSpPr>
          <p:spPr>
            <a:xfrm>
              <a:off x="1066680" y="51703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l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1" name="Picture 56" descr="Tool Box 05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02920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320" y="43434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and Marie voit le conducteur, ______ dit: “Oh, je suis fatiguée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41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44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45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46" name="Group 4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47" name="Group 5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648" name="Picture 6" descr="maze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Line 7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Line 8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Line 9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Line 10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Line 11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Line 12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5" name="Line 13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Line 14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Line 15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Line 16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Line 17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Line 18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1" name="Line 19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20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21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Line 22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Line 23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24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25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26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Line 27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28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29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38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39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74" name="Picture 35" descr="TN00546_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675" name="Line 42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Line 43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44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Line 45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46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47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Picture 40" descr="TN00546_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8" descr="j0261380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56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684" name="Rectangle 57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5" name="Picture 58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WordArt 5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87" name="Group 59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688" name="Text Box 60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saie encore. 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9" name="Picture 61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’as pas bien chois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7"/>
                                      </p:cond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9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5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92" name="Group 51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93" name="Group 2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94" name="Group 3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95" name="Group 4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696" name="Group 5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697" name="Picture 6" descr="maze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698" name="Line 7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Line 8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Line 9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Line 10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2" name="Line 11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Line 12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4" name="Line 13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Line 14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Line 15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Line 16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Line 17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Line 18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0" name="Line 19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Line 20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Line 21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Line 22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4" name="Line 23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24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25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6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27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8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9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" name="Line 38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2" name="Line 39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Line 41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42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Picture 40" descr="TN00546_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5" descr="TN00546_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44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728" name="Group 45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729" name="Line 46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47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8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732" name="Line 49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50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WordArt 5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35" name="Group 61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736" name="Rectangle 59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7" name="Picture 60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vo!  Tu peux continu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9" name="Group 67"/>
          <p:cNvGrpSpPr/>
          <p:nvPr/>
        </p:nvGrpSpPr>
        <p:grpSpPr>
          <a:xfrm>
            <a:off x="228600" y="5257800"/>
            <a:ext cx="6553080" cy="886320"/>
            <a:chOff x="228600" y="5257800"/>
            <a:chExt cx="6553080" cy="886320"/>
          </a:xfrm>
        </p:grpSpPr>
        <p:pic>
          <p:nvPicPr>
            <p:cNvPr id="740" name="Picture 63" descr="Auto Racing - Equipment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228600" y="5257800"/>
              <a:ext cx="84132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65"/>
            <p:cNvSpPr/>
            <p:nvPr/>
          </p:nvSpPr>
          <p:spPr>
            <a:xfrm>
              <a:off x="1066680" y="544032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mmencer ta première cour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2"/>
                                      </p:cond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500"/>
                            </p:stCondLst>
                            <p:childTnLst>
                              <p:par>
                                <p:cTn id="6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1ade4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lanta Motor Speed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3" name="Picture 3" descr="TN00734_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indy500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45" name="Rectangle 7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AutoShape 8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AutoShape 9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AutoShape 10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11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AutoShape 12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13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utoShape 14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15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16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17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18"/>
          <p:cNvSpPr/>
          <p:nvPr/>
        </p:nvSpPr>
        <p:spPr>
          <a:xfrm>
            <a:off x="228600" y="54799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utoShape 19"/>
          <p:cNvSpPr/>
          <p:nvPr/>
        </p:nvSpPr>
        <p:spPr>
          <a:xfrm>
            <a:off x="228600" y="29653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20"/>
          <p:cNvSpPr/>
          <p:nvPr/>
        </p:nvSpPr>
        <p:spPr>
          <a:xfrm>
            <a:off x="228600" y="17082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21"/>
          <p:cNvSpPr/>
          <p:nvPr/>
        </p:nvSpPr>
        <p:spPr>
          <a:xfrm>
            <a:off x="228600" y="4525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AutoShape 22"/>
          <p:cNvSpPr/>
          <p:nvPr/>
        </p:nvSpPr>
        <p:spPr>
          <a:xfrm>
            <a:off x="228600" y="42228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Picture 23" descr="TR00138_">
            <a:hlinkClick r:id="" action="ppaction://hlinkshowjump?jump=nextslide"/>
          </p:cNvPr>
          <p:cNvPicPr/>
          <p:nvPr/>
        </p:nvPicPr>
        <p:blipFill>
          <a:blip r:embed="rId13"/>
          <a:srcRect l="0" t="0" r="0" b="-8466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62" name="AutoShape 24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Atlanta Motor Speedwa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3" name="Group 34"/>
          <p:cNvGrpSpPr/>
          <p:nvPr/>
        </p:nvGrpSpPr>
        <p:grpSpPr>
          <a:xfrm>
            <a:off x="2017800" y="5486400"/>
            <a:ext cx="6299280" cy="1697040"/>
            <a:chOff x="2017800" y="5486400"/>
            <a:chExt cx="6299280" cy="1697040"/>
          </a:xfrm>
        </p:grpSpPr>
        <p:pic>
          <p:nvPicPr>
            <p:cNvPr id="764" name="Picture 35" descr="right hand"/>
            <p:cNvPicPr/>
            <p:nvPr/>
          </p:nvPicPr>
          <p:blipFill>
            <a:blip r:embed="rId14"/>
            <a:stretch/>
          </p:blipFill>
          <p:spPr>
            <a:xfrm>
              <a:off x="6361200" y="548640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36" descr="left hand"/>
            <p:cNvPicPr/>
            <p:nvPr/>
          </p:nvPicPr>
          <p:blipFill>
            <a:blip r:embed="rId15"/>
            <a:stretch/>
          </p:blipFill>
          <p:spPr>
            <a:xfrm>
              <a:off x="2017800" y="548640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6" name="Group 25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767" name="Group 26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768" name="AutoShape 27"/>
              <p:cNvSpPr/>
              <p:nvPr/>
            </p:nvSpPr>
            <p:spPr>
              <a:xfrm>
                <a:off x="4836960" y="4383000"/>
                <a:ext cx="685800" cy="1646280"/>
              </a:xfrm>
              <a:prstGeom prst="pie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9" name="Group 28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770" name="AutoShape 29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utoShape 30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2" name="AutoShape 31"/>
            <p:cNvSpPr/>
            <p:nvPr/>
          </p:nvSpPr>
          <p:spPr>
            <a:xfrm>
              <a:off x="3124080" y="4040280"/>
              <a:ext cx="4113360" cy="411300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32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Text Box 33"/>
          <p:cNvSpPr/>
          <p:nvPr/>
        </p:nvSpPr>
        <p:spPr>
          <a:xfrm>
            <a:off x="5562720" y="4572000"/>
            <a:ext cx="358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Arial"/>
              </a:rPr>
              <a:t>Clique sur la clé pour comme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37"/>
          <p:cNvGrpSpPr/>
          <p:nvPr/>
        </p:nvGrpSpPr>
        <p:grpSpPr>
          <a:xfrm>
            <a:off x="1371600" y="6400800"/>
            <a:ext cx="7616520" cy="990360"/>
            <a:chOff x="1371600" y="6400800"/>
            <a:chExt cx="7616520" cy="990360"/>
          </a:xfrm>
        </p:grpSpPr>
        <p:pic>
          <p:nvPicPr>
            <p:cNvPr id="776" name="Picture 38" descr="right hand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40080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39" descr="left hand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40080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Freeform 40"/>
            <p:cNvSpPr/>
            <p:nvPr/>
          </p:nvSpPr>
          <p:spPr>
            <a:xfrm>
              <a:off x="1371600" y="6421320"/>
              <a:ext cx="951120" cy="8938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41"/>
            <p:cNvSpPr/>
            <p:nvPr/>
          </p:nvSpPr>
          <p:spPr>
            <a:xfrm flipH="1">
              <a:off x="8037000" y="6430680"/>
              <a:ext cx="950760" cy="9604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7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TN00546_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" descr="maze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782" name="Line 4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5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8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8" name="Group 10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789" name="Group 11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790" name="Line 12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Rectangle 13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14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793" name="Line 15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Rectangle 16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WordArt 1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6" name="Picture 18" descr="TN00546_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798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9" name="Picture 21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Group 29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801" name="Text Box 23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Times New Roman"/>
                </a:rPr>
                <a:t>C’est Pierr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2" name="Picture 24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Group 30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804" name="Text Box 26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Times New Roman"/>
                </a:rPr>
                <a:t>C’est Mari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5" name="Picture 27" descr="Tool Box 05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320" y="3962520"/>
            <a:ext cx="90676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Est-ce que Pierre ou Marie est le premier personnage qui parle dans la piè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7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evt="end">
                                        <p:tn val="723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500"/>
                            </p:stCondLst>
                            <p:childTnLst>
                              <p:par>
                                <p:cTn id="7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808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15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16" name="Line 11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12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14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16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17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18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19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20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22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23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24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25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26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27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29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5" name="Picture 30" descr="TN00546_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1" descr="j0261380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837" name="Group 32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838" name="Rectangle 33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39" name="Picture 3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WordArt 3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41" name="Group 3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842" name="Text Box 3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u veux continuer? Clique ici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43" name="Picture 3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! Non! N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75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850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950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8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evt="end">
                                        <p:tn val="860"/>
                                      </p:cond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846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3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54" name="Line 11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12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13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14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15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16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Picture 17" descr="TN00546_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61" name="WordArt 18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62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863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4" name="Picture 21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and Marie voit la policière, est-ce que Marie traverse la rue ou danse dans la ru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6" name="Group 29"/>
          <p:cNvGrpSpPr/>
          <p:nvPr/>
        </p:nvGrpSpPr>
        <p:grpSpPr>
          <a:xfrm>
            <a:off x="44280" y="5867280"/>
            <a:ext cx="9099720" cy="674640"/>
            <a:chOff x="44280" y="5867280"/>
            <a:chExt cx="9099720" cy="674640"/>
          </a:xfrm>
        </p:grpSpPr>
        <p:sp>
          <p:nvSpPr>
            <p:cNvPr id="867" name="Text Box 24"/>
            <p:cNvSpPr/>
            <p:nvPr/>
          </p:nvSpPr>
          <p:spPr>
            <a:xfrm>
              <a:off x="1066680" y="59320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ie traverse la ru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Picture 25" descr="Tool Box 05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672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Group 26"/>
          <p:cNvGrpSpPr/>
          <p:nvPr/>
        </p:nvGrpSpPr>
        <p:grpSpPr>
          <a:xfrm>
            <a:off x="0" y="5105520"/>
            <a:ext cx="9099720" cy="674640"/>
            <a:chOff x="0" y="5105520"/>
            <a:chExt cx="9099720" cy="674640"/>
          </a:xfrm>
        </p:grpSpPr>
        <p:sp>
          <p:nvSpPr>
            <p:cNvPr id="870" name="Text Box 27"/>
            <p:cNvSpPr/>
            <p:nvPr/>
          </p:nvSpPr>
          <p:spPr>
            <a:xfrm>
              <a:off x="1022400" y="524664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ie danse dans la ru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1" name="Picture 28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0" y="510552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0" dur="1" fill="hold">
                                    <p:stCondLst>
                                      <p:cond evt="end">
                                        <p:tn val="886"/>
                                      </p:cond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5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500"/>
                            </p:stCondLst>
                            <p:childTnLst>
                              <p:par>
                                <p:cTn id="9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8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90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7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874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1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7" name="Picture 17" descr="TN00546_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88" name="Line 18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Line 19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20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21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2" name="Picture 22" descr="TN00546_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3" descr="j0261380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94" name="Group 24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895" name="Rectangle 25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6" name="Picture 2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WordArt 2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8" name="Group 2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899" name="Text Box 2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0" name="Picture 3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e sais pas conduir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1"/>
                                      </p:cond>
                                    </p:stCondLst>
                                  </p:cTn>
                                  <p:tgtEl>
                                    <p:spTgt spid="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9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6500"/>
                            </p:stCondLst>
                            <p:childTnLst>
                              <p:par>
                                <p:cTn id="9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7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8000"/>
                            </p:stCondLst>
                            <p:childTnLst>
                              <p:par>
                                <p:cTn id="9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7" dur="1" fill="hold">
                                    <p:stCondLst>
                                      <p:cond evt="end">
                                        <p:tn val="963"/>
                                      </p:cond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9500"/>
                            </p:stCondLst>
                            <p:childTnLst>
                              <p:par>
                                <p:cTn id="9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1160" y="380880"/>
            <a:ext cx="678168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ienvenue à la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ourse 5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ète trois courses pour remporter un pri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lanta Motor Speed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anapolis 5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2" descr="bulb_blk"/>
          <p:cNvPicPr/>
          <p:nvPr/>
        </p:nvPicPr>
        <p:blipFill>
          <a:blip r:embed="rId1"/>
          <a:stretch/>
        </p:blipFill>
        <p:spPr>
          <a:xfrm>
            <a:off x="2514600" y="1600200"/>
            <a:ext cx="4114800" cy="25092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21"/>
          <p:cNvGrpSpPr/>
          <p:nvPr/>
        </p:nvGrpSpPr>
        <p:grpSpPr>
          <a:xfrm>
            <a:off x="3657600" y="4876920"/>
            <a:ext cx="1752480" cy="1275480"/>
            <a:chOff x="3657600" y="4876920"/>
            <a:chExt cx="1752480" cy="1275480"/>
          </a:xfrm>
        </p:grpSpPr>
        <p:grpSp>
          <p:nvGrpSpPr>
            <p:cNvPr id="282" name="Group 13"/>
            <p:cNvGrpSpPr/>
            <p:nvPr/>
          </p:nvGrpSpPr>
          <p:grpSpPr>
            <a:xfrm>
              <a:off x="3954240" y="4876920"/>
              <a:ext cx="1233000" cy="1233360"/>
              <a:chOff x="3954240" y="4876920"/>
              <a:chExt cx="1233000" cy="1233360"/>
            </a:xfrm>
          </p:grpSpPr>
          <p:grpSp>
            <p:nvGrpSpPr>
              <p:cNvPr id="283" name="Group 14"/>
              <p:cNvGrpSpPr/>
              <p:nvPr/>
            </p:nvGrpSpPr>
            <p:grpSpPr>
              <a:xfrm>
                <a:off x="4058640" y="4979520"/>
                <a:ext cx="1022040" cy="862920"/>
                <a:chOff x="4058640" y="4979520"/>
                <a:chExt cx="1022040" cy="862920"/>
              </a:xfrm>
            </p:grpSpPr>
            <p:sp>
              <p:nvSpPr>
                <p:cNvPr id="284" name="AutoShape 15"/>
                <p:cNvSpPr/>
                <p:nvPr/>
              </p:nvSpPr>
              <p:spPr>
                <a:xfrm>
                  <a:off x="4467240" y="4979520"/>
                  <a:ext cx="205560" cy="49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24242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Group 16"/>
                <p:cNvGrpSpPr/>
                <p:nvPr/>
              </p:nvGrpSpPr>
              <p:grpSpPr>
                <a:xfrm>
                  <a:off x="4058640" y="5417640"/>
                  <a:ext cx="1022040" cy="424800"/>
                  <a:chOff x="4058640" y="5417640"/>
                  <a:chExt cx="1022040" cy="424800"/>
                </a:xfrm>
              </p:grpSpPr>
              <p:sp>
                <p:nvSpPr>
                  <p:cNvPr id="286" name="AutoShape 17"/>
                  <p:cNvSpPr/>
                  <p:nvPr/>
                </p:nvSpPr>
                <p:spPr>
                  <a:xfrm rot="7200000">
                    <a:off x="4712760" y="5383080"/>
                    <a:ext cx="205560" cy="49356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utoShape 18"/>
                  <p:cNvSpPr/>
                  <p:nvPr/>
                </p:nvSpPr>
                <p:spPr>
                  <a:xfrm flipH="1" rot="14400000">
                    <a:off x="4221000" y="5382720"/>
                    <a:ext cx="205560" cy="49392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AutoShape 19"/>
              <p:cNvSpPr/>
              <p:nvPr/>
            </p:nvSpPr>
            <p:spPr>
              <a:xfrm>
                <a:off x="3954240" y="4876920"/>
                <a:ext cx="1233000" cy="12333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Oval 20"/>
              <p:cNvSpPr/>
              <p:nvPr/>
            </p:nvSpPr>
            <p:spPr>
              <a:xfrm>
                <a:off x="4447080" y="5370480"/>
                <a:ext cx="246240" cy="246600"/>
              </a:xfrm>
              <a:prstGeom prst="ellipse">
                <a:avLst/>
              </a:prstGeom>
              <a:gradFill rotWithShape="0">
                <a:gsLst>
                  <a:gs pos="0">
                    <a:srgbClr val="242424"/>
                  </a:gs>
                  <a:gs pos="100000">
                    <a:srgbClr val="4d4d4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Text Box 7">
              <a:hlinkClick r:id="" action="ppaction://hlinkshowjump?jump=nextslide"/>
            </p:cNvPr>
            <p:cNvSpPr/>
            <p:nvPr/>
          </p:nvSpPr>
          <p:spPr>
            <a:xfrm>
              <a:off x="3657600" y="5143680"/>
              <a:ext cx="17524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Clique ici pour commenc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0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904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1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17" name="Picture 17" descr="TN00546_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18" name="Line 18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Line 19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Line 20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Line 21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22" descr="TN00546_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23" name="WordArt 23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24" name="Group 24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925" name="Rectangle 25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6" name="Picture 26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-ce que le train s’arrête après beaucoup de temps ou après quelques minut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8" name="Group 2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929" name="Text Box 29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e train s’arrête après beaucoup de temp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0" name="Picture 3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1" name="Group 34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932" name="Text Box 32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e train s’arrête après quelques minut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3" name="Picture 33" descr="Tool Box 05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3" dur="1" fill="hold">
                                    <p:stCondLst>
                                      <p:cond evt="end">
                                        <p:tn val="989"/>
                                      </p:cond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35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36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937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8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0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4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955" name="Line 23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24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Line 25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Line 26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Line 28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1" name="Picture 29" descr="TN00546_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0" descr="j0261380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963" name="Group 31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964" name="Rectangle 32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5" name="Picture 33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6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67" name="Group 35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968" name="Text Box 36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ntinu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9" name="Picture 37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! Un petit acci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0" dur="1" fill="hold">
                                    <p:stCondLst>
                                      <p:cond evt="end">
                                        <p:tn val="1036"/>
                                      </p:cond>
                                    </p:stCondLst>
                                  </p:cTn>
                                  <p:tgtEl>
                                    <p:spTgt spid="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6"/>
                                      </p:cond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72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73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974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5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7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1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992" name="Line 23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25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26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27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Line 28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29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9" name="Picture 30" descr="TN00546_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000" name="WordArt 31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01" name="Group 32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002" name="Rectangle 33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3" name="Picture 34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4" name="Group 42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005" name="Text Box 36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ierre est gentil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6" name="Picture 37" descr="Tool Box 05"/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38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008" name="Text Box 39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ierre est méchant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Picture 40" descr="Tool Box 05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t-ce que Pierre est gentil ou méchan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evt="end">
                                        <p:tn val="1092"/>
                                      </p:cond>
                                    </p:stCondLst>
                                  </p:cTn>
                                  <p:tgtEl>
                                    <p:spTgt spid="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12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13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14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015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6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2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2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9" name="Line 30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0" name="Picture 31" descr="TN00546_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2" descr="TN00546_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3" descr="j0261380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oup 34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044" name="Rectangle 35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5" name="Picture 3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6" name="WordArt 3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048" name="Text Box 3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9" name="Picture 4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 n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1"/>
                                      </p:cond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52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53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54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055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6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2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9" name="Picture 30" descr="TN00546_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080" name="Line 31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Line 32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2" name="Picture 33" descr="TN00546_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083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84" name="Group 35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1085" name="Rectangle 36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6" name="Picture 37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7" name="Group 38"/>
          <p:cNvGrpSpPr/>
          <p:nvPr/>
        </p:nvGrpSpPr>
        <p:grpSpPr>
          <a:xfrm>
            <a:off x="0" y="5105520"/>
            <a:ext cx="9099720" cy="674640"/>
            <a:chOff x="0" y="5105520"/>
            <a:chExt cx="9099720" cy="674640"/>
          </a:xfrm>
        </p:grpSpPr>
        <p:sp>
          <p:nvSpPr>
            <p:cNvPr id="1088" name="Text Box 39"/>
            <p:cNvSpPr/>
            <p:nvPr/>
          </p:nvSpPr>
          <p:spPr>
            <a:xfrm>
              <a:off x="1022400" y="517032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e capitaine veut lancer Mari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Picture 4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0" y="510552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45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091" name="Text Box 42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 capitaine veut aider Mari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Picture 43" descr="Tool Box 05"/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6320" y="42670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-ce que le capitaine dit qu’il veut aider ou lancer Mar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0" dur="1" fill="hold">
                                    <p:stCondLst>
                                      <p:cond evt="end">
                                        <p:tn val="1186"/>
                                      </p:cond>
                                    </p:stCondLst>
                                  </p:cTn>
                                  <p:tgtEl>
                                    <p:spTgt spid="1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95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96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97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098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099" name="Picture 7" descr="maze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00" name="Line 8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Line 9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Line 10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Line 11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Line 12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Line 13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Line 14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Line 15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Line 16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Line 17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Line 18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Line 19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2" name="Line 20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Line 21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Line 22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Line 23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6" name="Line 24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Line 25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Line 26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Line 27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Line 28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Line 29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Line 30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Line 31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32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5" name="Picture 33" descr="TN00546_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126" name="Line 34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Line 35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Line 36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Line 37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Line 38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39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2" name="Picture 40" descr="TN00546_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1" descr="j0261380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134" name="Group 42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135" name="Rectangle 43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6" name="Picture 4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38" name="Group 4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139" name="Text Box 4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prendre le bon chemi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0" name="Picture 4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!  Ce n’est pas bie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9" dur="1" fill="hold">
                                    <p:stCondLst>
                                      <p:cond evt="end">
                                        <p:tn val="1225"/>
                                      </p:cond>
                                    </p:stCondLst>
                                  </p:cTn>
                                  <p:tgtEl>
                                    <p:spTgt spid="1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14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14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145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146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147" name="Group 7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148" name="Picture 8" descr="maze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9" name="Line 9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" name="Line 10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Line 11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Line 12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3" name="Line 13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4" name="Line 14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5" name="Line 15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Line 16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Line 17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Line 18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Line 19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Line 20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1" name="Line 21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Line 22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Line 23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Line 24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5" name="Line 25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Line 26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Line 27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Line 28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Line 29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Line 30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Line 31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2" name="Line 32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Line 33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4" name="Line 34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Line 35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6" name="Picture 36" descr="TN00546_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37" descr="TN00546_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178" name="Group 38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179" name="Group 39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180" name="Line 40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Rectangle 41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Group 42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183" name="Line 43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Rectangle 44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5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86" name="Group 46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187" name="Rectangle 47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8" name="Picture 48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élicitations!  Tu as réussi la cours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0" name="Group 53"/>
          <p:cNvGrpSpPr/>
          <p:nvPr/>
        </p:nvGrpSpPr>
        <p:grpSpPr>
          <a:xfrm>
            <a:off x="228600" y="5264280"/>
            <a:ext cx="6553080" cy="763560"/>
            <a:chOff x="228600" y="5264280"/>
            <a:chExt cx="6553080" cy="763560"/>
          </a:xfrm>
        </p:grpSpPr>
        <p:pic>
          <p:nvPicPr>
            <p:cNvPr id="1191" name="Picture 51" descr="Auto Racing - Equipment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228600" y="5264280"/>
              <a:ext cx="84132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Text Box 52"/>
            <p:cNvSpPr/>
            <p:nvPr/>
          </p:nvSpPr>
          <p:spPr>
            <a:xfrm>
              <a:off x="1066680" y="5295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mmencer la dernière cour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4" dur="1" fill="hold">
                                    <p:stCondLst>
                                      <p:cond evt="end">
                                        <p:tn val="1280"/>
                                      </p:cond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3" dur="1" fill="hold">
                                    <p:stCondLst>
                                      <p:cond evt="end">
                                        <p:tn val="1299"/>
                                      </p:cond>
                                    </p:stCondLst>
                                  </p:cTn>
                                  <p:tgtEl>
                                    <p:spTgt spid="1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1ade4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anapolis 5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4" name="Picture 3" descr="TN00734_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6" descr="indy500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96" name="Rectangle 7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AutoShape 8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AutoShape 9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AutoShape 10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AutoShape 11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AutoShape 12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AutoShape 13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AutoShape 14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AutoShape 15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AutoShape 16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AutoShape 17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AutoShape 18"/>
          <p:cNvSpPr/>
          <p:nvPr/>
        </p:nvSpPr>
        <p:spPr>
          <a:xfrm>
            <a:off x="228600" y="54799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AutoShape 19"/>
          <p:cNvSpPr/>
          <p:nvPr/>
        </p:nvSpPr>
        <p:spPr>
          <a:xfrm>
            <a:off x="228600" y="29653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AutoShape 20"/>
          <p:cNvSpPr/>
          <p:nvPr/>
        </p:nvSpPr>
        <p:spPr>
          <a:xfrm>
            <a:off x="228600" y="17082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AutoShape 21"/>
          <p:cNvSpPr/>
          <p:nvPr/>
        </p:nvSpPr>
        <p:spPr>
          <a:xfrm>
            <a:off x="228600" y="4525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AutoShape 22"/>
          <p:cNvSpPr/>
          <p:nvPr/>
        </p:nvSpPr>
        <p:spPr>
          <a:xfrm>
            <a:off x="228600" y="42228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2" name="Picture 23" descr="TR00138_">
            <a:hlinkClick r:id="" action="ppaction://hlinkshowjump?jump=nextslide"/>
          </p:cNvPr>
          <p:cNvPicPr/>
          <p:nvPr/>
        </p:nvPicPr>
        <p:blipFill>
          <a:blip r:embed="rId13"/>
          <a:srcRect l="0" t="0" r="0" b="-8466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13" name="AutoShape 24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INDIANAPOLIS 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4" name="Group 34"/>
          <p:cNvGrpSpPr/>
          <p:nvPr/>
        </p:nvGrpSpPr>
        <p:grpSpPr>
          <a:xfrm>
            <a:off x="2017800" y="5483160"/>
            <a:ext cx="6299280" cy="1697040"/>
            <a:chOff x="2017800" y="5483160"/>
            <a:chExt cx="6299280" cy="1697040"/>
          </a:xfrm>
        </p:grpSpPr>
        <p:pic>
          <p:nvPicPr>
            <p:cNvPr id="1215" name="Picture 35" descr="right hand"/>
            <p:cNvPicPr/>
            <p:nvPr/>
          </p:nvPicPr>
          <p:blipFill>
            <a:blip r:embed="rId14"/>
            <a:stretch/>
          </p:blipFill>
          <p:spPr>
            <a:xfrm>
              <a:off x="6361200" y="548316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Picture 36" descr="left hand"/>
            <p:cNvPicPr/>
            <p:nvPr/>
          </p:nvPicPr>
          <p:blipFill>
            <a:blip r:embed="rId15"/>
            <a:stretch/>
          </p:blipFill>
          <p:spPr>
            <a:xfrm>
              <a:off x="2017800" y="548316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7" name="Group 25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1218" name="Group 26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1219" name="AutoShape 27"/>
              <p:cNvSpPr/>
              <p:nvPr/>
            </p:nvSpPr>
            <p:spPr>
              <a:xfrm>
                <a:off x="4836960" y="4383000"/>
                <a:ext cx="685800" cy="1646280"/>
              </a:xfrm>
              <a:prstGeom prst="pie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28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1221" name="AutoShape 29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AutoShape 30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3" name="AutoShape 31"/>
            <p:cNvSpPr/>
            <p:nvPr/>
          </p:nvSpPr>
          <p:spPr>
            <a:xfrm>
              <a:off x="3124080" y="4040280"/>
              <a:ext cx="4113360" cy="411300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5" name="Text Box 33"/>
          <p:cNvSpPr/>
          <p:nvPr/>
        </p:nvSpPr>
        <p:spPr>
          <a:xfrm>
            <a:off x="5334120" y="4572000"/>
            <a:ext cx="358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que sur la clé pour commence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Group 37"/>
          <p:cNvGrpSpPr/>
          <p:nvPr/>
        </p:nvGrpSpPr>
        <p:grpSpPr>
          <a:xfrm>
            <a:off x="1371600" y="6397560"/>
            <a:ext cx="7616520" cy="990360"/>
            <a:chOff x="1371600" y="6397560"/>
            <a:chExt cx="7616520" cy="990360"/>
          </a:xfrm>
        </p:grpSpPr>
        <p:pic>
          <p:nvPicPr>
            <p:cNvPr id="1227" name="Picture 38" descr="right hand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39756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39" descr="left hand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39756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Freeform 40"/>
            <p:cNvSpPr/>
            <p:nvPr/>
          </p:nvSpPr>
          <p:spPr>
            <a:xfrm>
              <a:off x="1371600" y="6418080"/>
              <a:ext cx="951120" cy="8938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Freeform 41"/>
            <p:cNvSpPr/>
            <p:nvPr/>
          </p:nvSpPr>
          <p:spPr>
            <a:xfrm flipH="1">
              <a:off x="8037000" y="6427440"/>
              <a:ext cx="950760" cy="9604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2" descr="TN00546_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3" descr="maze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1233" name="Line 4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Line 5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Line 6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Line 7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Line 8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Line 9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9" name="Group 10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1240" name="Group 11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1241" name="Line 12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Rectangle 13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4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1244" name="Line 15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Rectangle 16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6" name="WordArt 1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7" name="Picture 18" descr="TN00546_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248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249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0" name="Picture 21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1" name="Group 29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252" name="Text Box 23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rie habite à Québe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3" name="Picture 24" descr="Tool Box 05"/>
            <p:cNvPicPr/>
            <p:nvPr/>
          </p:nvPicPr>
          <p:blipFill>
            <a:blip r:embed="rId7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4" name="Group 25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255" name="Text Box 26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ierre habite à Québe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6" name="Picture 27" descr="Tool Box 05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6320" y="41148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Qui habite à Québec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9" dur="1" fill="hold">
                                    <p:stCondLst>
                                      <p:cond evt="end">
                                        <p:tn val="1375"/>
                                      </p:cond>
                                    </p:stCondLst>
                                  </p:cTn>
                                  <p:tgtEl>
                                    <p:spTgt spid="1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5" dur="1" fill="hold">
                                    <p:stCondLst>
                                      <p:cond evt="end">
                                        <p:tn val="1381"/>
                                      </p:cond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5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259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6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267" name="Line 11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Line 12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Line 13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Line 14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Line 15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Line 16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17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18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19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20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Line 21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Line 22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Line 23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Line 24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Line 25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Line 26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27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Line 28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Line 29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6" name="Picture 30" descr="TN00546_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31" descr="j0261380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288" name="Group 32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289" name="Rectangle 33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0" name="Picture 3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1" name="WordArt 3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92" name="Group 3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293" name="Text Box 3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4" name="Picture 3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Non! Oop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0" dur="1" fill="hold">
                                    <p:stCondLst>
                                      <p:cond evt="end">
                                        <p:tn val="1436"/>
                                      </p:cond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2" dur="1" fill="hold">
                                    <p:stCondLst>
                                      <p:cond evt="end">
                                        <p:tn val="1518"/>
                                      </p:cond>
                                    </p:stCondLst>
                                  </p:cTn>
                                  <p:tgtEl>
                                    <p:spTgt spid="1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1ade4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fying L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26" descr="TN00734_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indy500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94" name="Rectangle 18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19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20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21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22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23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24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5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26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27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28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29"/>
          <p:cNvSpPr/>
          <p:nvPr/>
        </p:nvSpPr>
        <p:spPr>
          <a:xfrm>
            <a:off x="228600" y="54799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30"/>
          <p:cNvSpPr/>
          <p:nvPr/>
        </p:nvSpPr>
        <p:spPr>
          <a:xfrm>
            <a:off x="228600" y="29653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31"/>
          <p:cNvSpPr/>
          <p:nvPr/>
        </p:nvSpPr>
        <p:spPr>
          <a:xfrm>
            <a:off x="228600" y="17082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32"/>
          <p:cNvSpPr/>
          <p:nvPr/>
        </p:nvSpPr>
        <p:spPr>
          <a:xfrm>
            <a:off x="228600" y="4525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33"/>
          <p:cNvSpPr/>
          <p:nvPr/>
        </p:nvSpPr>
        <p:spPr>
          <a:xfrm>
            <a:off x="228600" y="42228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41" descr="TR00138_">
            <a:hlinkClick r:id="" action="ppaction://hlinkshowjump?jump=nextslide"/>
          </p:cNvPr>
          <p:cNvPicPr/>
          <p:nvPr/>
        </p:nvPicPr>
        <p:blipFill>
          <a:blip r:embed="rId13"/>
          <a:srcRect l="0" t="0" r="0" b="-8466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1" name="AutoShape 127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Qualif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Group 334"/>
          <p:cNvGrpSpPr/>
          <p:nvPr/>
        </p:nvGrpSpPr>
        <p:grpSpPr>
          <a:xfrm>
            <a:off x="2017800" y="5483160"/>
            <a:ext cx="6299280" cy="1697040"/>
            <a:chOff x="2017800" y="5483160"/>
            <a:chExt cx="6299280" cy="1697040"/>
          </a:xfrm>
        </p:grpSpPr>
        <p:pic>
          <p:nvPicPr>
            <p:cNvPr id="313" name="Picture 335" descr="right hand"/>
            <p:cNvPicPr/>
            <p:nvPr/>
          </p:nvPicPr>
          <p:blipFill>
            <a:blip r:embed="rId14"/>
            <a:stretch/>
          </p:blipFill>
          <p:spPr>
            <a:xfrm>
              <a:off x="6361200" y="548316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36" descr="left hand"/>
            <p:cNvPicPr/>
            <p:nvPr/>
          </p:nvPicPr>
          <p:blipFill>
            <a:blip r:embed="rId15"/>
            <a:stretch/>
          </p:blipFill>
          <p:spPr>
            <a:xfrm>
              <a:off x="2017800" y="548316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98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316" name="Group 196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317" name="AutoShape 185"/>
              <p:cNvSpPr/>
              <p:nvPr/>
            </p:nvSpPr>
            <p:spPr>
              <a:xfrm>
                <a:off x="4836960" y="4383000"/>
                <a:ext cx="685800" cy="1646280"/>
              </a:xfrm>
              <a:prstGeom prst="pie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8" name="Group 195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319" name="AutoShape 186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187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AutoShape 183"/>
            <p:cNvSpPr/>
            <p:nvPr/>
          </p:nvSpPr>
          <p:spPr>
            <a:xfrm>
              <a:off x="3124080" y="4040280"/>
              <a:ext cx="4113360" cy="411300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184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Text Box 125"/>
          <p:cNvSpPr/>
          <p:nvPr/>
        </p:nvSpPr>
        <p:spPr>
          <a:xfrm>
            <a:off x="4572000" y="457200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que sur la clé pour comme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337"/>
          <p:cNvGrpSpPr/>
          <p:nvPr/>
        </p:nvGrpSpPr>
        <p:grpSpPr>
          <a:xfrm>
            <a:off x="1371600" y="6397560"/>
            <a:ext cx="7616520" cy="990360"/>
            <a:chOff x="1371600" y="6397560"/>
            <a:chExt cx="7616520" cy="990360"/>
          </a:xfrm>
        </p:grpSpPr>
        <p:pic>
          <p:nvPicPr>
            <p:cNvPr id="325" name="Picture 338" descr="right hand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39756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39" descr="left hand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39756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Freeform 340"/>
            <p:cNvSpPr/>
            <p:nvPr/>
          </p:nvSpPr>
          <p:spPr>
            <a:xfrm>
              <a:off x="1371600" y="6418080"/>
              <a:ext cx="951120" cy="8938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341"/>
            <p:cNvSpPr/>
            <p:nvPr/>
          </p:nvSpPr>
          <p:spPr>
            <a:xfrm flipH="1">
              <a:off x="8037000" y="6427440"/>
              <a:ext cx="950760" cy="9604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297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04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05" name="Line 11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Line 12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Line 13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Line 14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Line 15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Line 16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1" name="Picture 17" descr="TN00546_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312" name="WordArt 18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3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314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5" name="Picture 21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ù est Québe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7" name="Group 29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318" name="Text Box 24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ébec est au Canada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9" name="Picture 25" descr="Tool Box 05"/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0" name="Group 26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321" name="Text Box 27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Québec est en Europ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2" name="Picture 28" descr="Tool Box 05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48" dur="1" fill="hold">
                                    <p:stCondLst>
                                      <p:cond evt="end">
                                        <p:tn val="1544"/>
                                      </p:cond>
                                    </p:stCondLst>
                                  </p:cTn>
                                  <p:tgtEl>
                                    <p:spTgt spid="1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24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325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38" name="Picture 17" descr="TN00546_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339" name="Line 18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Line 19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Line 20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Line 21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3" name="Picture 22" descr="TN00546_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23" descr="j0261380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345" name="Group 24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1346" name="Rectangle 25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7" name="Picture 2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8" name="WordArt 2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49" name="Group 2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350" name="Text Box 2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épare ton auto.  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1" name="Picture 3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 n’est pas vrai!  Un acci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03" dur="1" fill="hold">
                                    <p:stCondLst>
                                      <p:cond evt="end">
                                        <p:tn val="1599"/>
                                      </p:cond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25" dur="1" fill="hold">
                                    <p:stCondLst>
                                      <p:cond evt="end">
                                        <p:tn val="1621"/>
                                      </p:cond>
                                    </p:stCondLst>
                                  </p:cTn>
                                  <p:tgtEl>
                                    <p:spTgt spid="1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9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54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355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6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8" name="Picture 17" descr="TN00546_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69" name="Line 18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Line 19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Line 20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Line 21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3" name="Picture 22" descr="TN00546_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74" name="WordArt 23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75" name="Group 24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376" name="Rectangle 25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77" name="Picture 26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ourquoi est-ce que la policière dit: “Je suis désolée, Marie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9" name="Group 2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380" name="Text Box 29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Le train ne marche pa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1" name="Picture 3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2" name="Group 34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383" name="Text Box 32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L’auto ne marche pa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4" name="Picture 33" descr="Tool Box 05"/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1" dur="1" fill="hold">
                                    <p:stCondLst>
                                      <p:cond evt="end">
                                        <p:tn val="1647"/>
                                      </p:cond>
                                    </p:stCondLst>
                                  </p:cTn>
                                  <p:tgtEl>
                                    <p:spTgt spid="1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86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87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388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5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406" name="Line 23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Line 24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Line 25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Line 26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Line 27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Line 28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2" name="Picture 29" descr="TN00546_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30" descr="j0261380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414" name="Group 31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415" name="Rectangle 32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6" name="Picture 33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7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18" name="Group 35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419" name="Text Box 36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0" name="Picture 37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’as pas de chanc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0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8" dur="1" fill="hold">
                                    <p:stCondLst>
                                      <p:cond evt="end">
                                        <p:tn val="1694"/>
                                      </p:cond>
                                    </p:stCondLst>
                                  </p:cTn>
                                  <p:tgtEl>
                                    <p:spTgt spid="1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8" dur="1" fill="hold">
                                    <p:stCondLst>
                                      <p:cond evt="end">
                                        <p:tn val="1724"/>
                                      </p:cond>
                                    </p:stCondLst>
                                  </p:cTn>
                                  <p:tgtEl>
                                    <p:spTgt spid="1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2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42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42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425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6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2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443" name="Line 23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24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25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26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27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28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29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0" name="Picture 30" descr="TN00546_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451" name="WordArt 31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52" name="Group 32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453" name="Rectangle 33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4" name="Picture 34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5" name="Group 42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456" name="Text Box 36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 y a une soucoupe volant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7" name="Picture 37" descr="Tool Box 05"/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8" name="Group 38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459" name="Text Box 39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 y a un avio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60" name="Picture 40" descr="Tool Box 05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Qu’est-ce qu’il y a dans le ciel, après que Marie saute dans l’eau et nage un pe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0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4" dur="1" fill="hold">
                                    <p:stCondLst>
                                      <p:cond evt="end">
                                        <p:tn val="1750"/>
                                      </p:cond>
                                    </p:stCondLst>
                                  </p:cTn>
                                  <p:tgtEl>
                                    <p:spTgt spid="1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46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46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465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466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7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3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9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0" name="Line 30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1" name="Picture 31" descr="TN00546_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32" descr="TN00546_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33" descr="j0261380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494" name="Group 34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495" name="Rectangle 35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6" name="Picture 3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7" name="WordArt 3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98" name="Group 3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499" name="Text Box 3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retourner à la cour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0" name="Picture 4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, non!  Un petit acci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3" dur="1" fill="hold">
                                    <p:stCondLst>
                                      <p:cond evt="end">
                                        <p:tn val="1809"/>
                                      </p:cond>
                                    </p:stCondLst>
                                  </p:cTn>
                                  <p:tgtEl>
                                    <p:spTgt spid="1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50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50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505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506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7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3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9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0" name="Picture 30" descr="TN00546_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531" name="Line 31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Line 32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3" name="Picture 33" descr="TN00546_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534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35" name="Group 35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1536" name="Rectangle 36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7" name="Picture 37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8" name="Group 3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539" name="Text Box 39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 soucoupe volante nag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0" name="Picture 4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1" name="Group 45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542" name="Text Box 42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 soucoupe volante vol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3" name="Picture 43" descr="Tool Box 05"/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Qu’est-ce que la soucoupe volante fait dans le ci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0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48" dur="1" fill="hold">
                                    <p:stCondLst>
                                      <p:cond evt="end">
                                        <p:tn val="1844"/>
                                      </p:cond>
                                    </p:stCondLst>
                                  </p:cTn>
                                  <p:tgtEl>
                                    <p:spTgt spid="1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9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546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547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548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549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550" name="Picture 7" descr="maze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51" name="Line 8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Line 9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Line 10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Line 11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Line 12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6" name="Line 13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7" name="Line 14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Line 15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Line 16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Line 17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Line 18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Line 19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3" name="Line 20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Line 21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Line 22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Line 23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7" name="Line 24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Line 25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Line 26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Line 27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Line 28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Line 29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Line 30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Line 31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Line 32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6" name="Picture 33" descr="TN00546_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577" name="Line 34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Line 35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Line 36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Line 37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38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39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3" name="Picture 40" descr="TN00546_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41" descr="j0261380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585" name="Group 42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586" name="Rectangle 43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7" name="Picture 4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8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89" name="Group 4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590" name="Text Box 4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.  Tu dois continuer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91" name="Picture 4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0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7" dur="1" fill="hold">
                                    <p:stCondLst>
                                      <p:cond evt="end">
                                        <p:tn val="1883"/>
                                      </p:cond>
                                    </p:stCondLst>
                                  </p:cTn>
                                  <p:tgtEl>
                                    <p:spTgt spid="1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594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595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596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597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598" name="Group 7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599" name="Picture 8" descr="maze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600" name="Line 9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1" name="Line 10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2" name="Line 11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3" name="Line 12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4" name="Line 13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5" name="Line 14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6" name="Line 15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Line 16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Line 17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Line 18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Line 19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1" name="Line 20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2" name="Line 21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Line 22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Line 23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Line 24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6" name="Line 25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Line 26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Line 27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Line 28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Line 29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Line 30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Line 31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3" name="Line 32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Line 33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5" name="Line 34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Line 35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7" name="Picture 36" descr="TN00546_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37" descr="TN00546_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29" name="Group 38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630" name="Group 39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631" name="Line 40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Rectangle 41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Group 42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634" name="Line 43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Rectangle 44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6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37" name="Group 46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638" name="Rectangle 47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9" name="Picture 48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160" y="5333760"/>
            <a:ext cx="9067680" cy="53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élicitations!  Tu as gagné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1" name="Picture 53" descr="j0283714"/>
          <p:cNvPicPr/>
          <p:nvPr/>
        </p:nvPicPr>
        <p:blipFill>
          <a:blip r:embed="rId7"/>
          <a:stretch/>
        </p:blipFill>
        <p:spPr>
          <a:xfrm>
            <a:off x="5029200" y="1828800"/>
            <a:ext cx="434880" cy="639720"/>
          </a:xfrm>
          <a:prstGeom prst="rect">
            <a:avLst/>
          </a:prstGeom>
          <a:ln w="0">
            <a:noFill/>
          </a:ln>
        </p:spPr>
      </p:pic>
      <p:sp>
        <p:nvSpPr>
          <p:cNvPr id="1642" name="AutoShape 54"/>
          <p:cNvSpPr/>
          <p:nvPr/>
        </p:nvSpPr>
        <p:spPr>
          <a:xfrm>
            <a:off x="609480" y="457200"/>
            <a:ext cx="7696440" cy="838080"/>
          </a:xfrm>
          <a:custGeom>
            <a:avLst/>
            <a:gdLst>
              <a:gd name="textAreaLeft" fmla="*/ 961920 w 7696440"/>
              <a:gd name="textAreaRight" fmla="*/ 6734520 w 769644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Le grand gag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4" dur="indefinite" restart="never" nodeType="tmRoot">
          <p:childTnLst>
            <p:seq>
              <p:cTn id="1935" dur="indefinite" nodeType="mainSeq">
                <p:childTnLst>
                  <p:par>
                    <p:cTn id="1936" fill="hold">
                      <p:stCondLst>
                        <p:cond delay="0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2" dur="1" fill="hold">
                                    <p:stCondLst>
                                      <p:cond evt="end">
                                        <p:tn val="1938"/>
                                      </p:cond>
                                    </p:stCondLst>
                                  </p:cTn>
                                  <p:tgtEl>
                                    <p:spTgt spid="1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1" dur="1" fill="hold">
                                    <p:stCondLst>
                                      <p:cond evt="end">
                                        <p:tn val="1957"/>
                                      </p:cond>
                                    </p:stCondLst>
                                  </p:cTn>
                                  <p:tgtEl>
                                    <p:spTgt spid="1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077" descr="TN00546_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75" descr="maze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331" name="Line 2089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90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091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092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093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2094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106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338" name="Group 2102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339" name="Line 2101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2098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2103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342" name="Line 2104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2105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WordArt 2108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5" name="Picture 2112" descr="TN00546_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2113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347" name="Rectangle 211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8" name="Picture 2088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2117"/>
          <p:cNvGrpSpPr/>
          <p:nvPr/>
        </p:nvGrpSpPr>
        <p:grpSpPr>
          <a:xfrm>
            <a:off x="0" y="5867280"/>
            <a:ext cx="9099720" cy="674640"/>
            <a:chOff x="0" y="5867280"/>
            <a:chExt cx="9099720" cy="674640"/>
          </a:xfrm>
        </p:grpSpPr>
        <p:sp>
          <p:nvSpPr>
            <p:cNvPr id="350" name="Text Box 2082"/>
            <p:cNvSpPr/>
            <p:nvPr/>
          </p:nvSpPr>
          <p:spPr>
            <a:xfrm>
              <a:off x="1022400" y="59320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Times New Roman"/>
                </a:rPr>
                <a:t>Québe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1" name="Picture 2114" descr="Tool Box 05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0" y="58672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116"/>
          <p:cNvGrpSpPr/>
          <p:nvPr/>
        </p:nvGrpSpPr>
        <p:grpSpPr>
          <a:xfrm>
            <a:off x="44280" y="5181480"/>
            <a:ext cx="9099720" cy="674640"/>
            <a:chOff x="44280" y="5181480"/>
            <a:chExt cx="9099720" cy="674640"/>
          </a:xfrm>
        </p:grpSpPr>
        <p:sp>
          <p:nvSpPr>
            <p:cNvPr id="353" name="Text Box 2083"/>
            <p:cNvSpPr/>
            <p:nvPr/>
          </p:nvSpPr>
          <p:spPr>
            <a:xfrm>
              <a:off x="1066680" y="5322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Times New Roman"/>
                </a:rPr>
                <a:t>Par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4" name="Picture 2115" descr="Tool Box 05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4280" y="5181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320" y="42670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arie habite à ___________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067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57" name="Picture 2050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Line 2060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061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2062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2063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064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2065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Picture 2059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65" name="Line 2068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2069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2070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2071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2072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2073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2074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2075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2076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2077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078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079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2080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81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083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2084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2085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2086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2087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Picture 2088" descr="TN00546_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89" descr="j0261380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2098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387" name="Rectangle 2097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8" name="Picture 209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WordArt 209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90" name="Group 2102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391" name="Text Box 2055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faire réparer ta voiture.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2" name="Picture 210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as eu un acci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104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95" name="Picture 1026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Line 1036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Line 1037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Line 1038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1039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1040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041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2" name="Picture 1035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03" name="Line 1043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044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045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1046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1047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1048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1049" descr="TN00546_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10" name="WordArt 105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11" name="Group 1060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12" name="Rectangle 1061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3" name="Picture 1062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320" y="41907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Paris est très ______________ de Québe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1070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416" name="Text Box 1065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oi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7" name="Picture 1066" descr="Tool Box 05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Group 1067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419" name="Text Box 1068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è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0" name="Picture 1069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5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22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23" name="Picture 3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Line 4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5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7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8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9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Line 18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19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1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2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3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6" name="Picture 24" descr="TN00546_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37" name="Line 28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29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30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31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32" descr="TN00546_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3" descr="j0261380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40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444" name="Rectangle 41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5" name="Picture 42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WordArt 39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47" name="Group 43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448" name="Text Box 44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trouver le bon chemi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9" name="Picture 45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’as pas réuss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5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50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7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52" name="Group 8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53" name="Picture 9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Line 10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11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12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Line 15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0" name="Line 16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7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18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19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20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21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6" name="Picture 22" descr="TN00546_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67" name="Line 26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Line 28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29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Picture 30" descr="TN00546_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72" name="WordArt 3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73" name="Group 38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74" name="Rectangle 39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5" name="Picture 40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près que Marie pense un peu, elle décide d’aller à Paris 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7" name="Group 49"/>
          <p:cNvGrpSpPr/>
          <p:nvPr/>
        </p:nvGrpSpPr>
        <p:grpSpPr>
          <a:xfrm>
            <a:off x="44280" y="5791320"/>
            <a:ext cx="9099720" cy="674640"/>
            <a:chOff x="44280" y="5791320"/>
            <a:chExt cx="9099720" cy="674640"/>
          </a:xfrm>
        </p:grpSpPr>
        <p:sp>
          <p:nvSpPr>
            <p:cNvPr id="478" name="Text Box 43"/>
            <p:cNvSpPr/>
            <p:nvPr/>
          </p:nvSpPr>
          <p:spPr>
            <a:xfrm>
              <a:off x="1066680" y="58561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n av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9" name="Picture 44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79132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50"/>
          <p:cNvGrpSpPr/>
          <p:nvPr/>
        </p:nvGrpSpPr>
        <p:grpSpPr>
          <a:xfrm>
            <a:off x="44280" y="5181480"/>
            <a:ext cx="9099720" cy="674640"/>
            <a:chOff x="44280" y="5181480"/>
            <a:chExt cx="9099720" cy="674640"/>
          </a:xfrm>
        </p:grpSpPr>
        <p:sp>
          <p:nvSpPr>
            <p:cNvPr id="481" name="Text Box 46"/>
            <p:cNvSpPr/>
            <p:nvPr/>
          </p:nvSpPr>
          <p:spPr>
            <a:xfrm>
              <a:off x="1066680" y="5322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à pi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2" name="Picture 47" descr="Tool Box 05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181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1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30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84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485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486" name="Picture 4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Line 5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6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7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8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9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10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Line 11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Line 13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Line 14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Line 15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Line 16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9" name="Line 25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26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Picture 29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504" name="Line 31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2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3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4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35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Line 36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39" descr="TN00546_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0" descr="j0261380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47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513" name="Rectangle 48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4" name="Picture 49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WordArt 4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16" name="Group 50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517" name="Text Box 51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ntinuer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8" name="Picture 52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, ça va ma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9500"/>
                            </p:stCondLst>
                            <p:childTnLst>
                              <p:par>
                                <p:cTn id="4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7:16:51Z</dcterms:created>
  <dc:creator>Connie Campbell</dc:creator>
  <dc:description>Copyright © 2002 Glenna R. Shaw and FTC Publishing
All Rights Reserved</dc:description>
  <dc:language>en-US</dc:language>
  <cp:lastModifiedBy>HP Authorized Customer</cp:lastModifiedBy>
  <dcterms:modified xsi:type="dcterms:W3CDTF">2010-07-21T23:38:26Z</dcterms:modified>
  <cp:revision>16</cp:revision>
  <dc:subject>PowerPak for PowerPoint 1.0</dc:subject>
  <dc:title>Academic Raceway 5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